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95EFC-4F5B-480F-B5FE-9EBBD138BE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3148A-E6F8-4892-837A-B27C1DC8DA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BE3C5-3E9C-44EB-AF12-74F097AAC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BF478-DB71-49C7-944B-09A0C8E46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03706-0E61-48C5-A78F-F1888CBB2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4DD93-D099-4E7A-BCEF-24D8FADBA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9DC60-9B02-432C-B122-C56FD56C6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28F34-497B-4E6F-BF30-D2C1BB773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37D2D-B422-4B79-A8B6-513D88DBC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9E2E9-7671-4101-9083-759D6F01F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AA56E-2D5B-45DB-B9D3-A241DC453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2052D-EBF4-4BBC-9683-76B2F4CDD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98BF5-C507-4563-B4DE-12BB49818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F8FA5-8DE8-42F7-92D5-AF22CC33C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0F9AD-2399-4107-AE6E-73183B577DC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31927-3DCD-499B-8BC3-D69A29747460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13572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Regulators’ Response: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risis Framework</a:t>
            </a:r>
            <a:br>
              <a:rPr sz="40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y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John Bovenz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28760" y="3429000"/>
            <a:ext cx="82152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2700" spc="-1" strike="noStrike">
                <a:solidFill>
                  <a:srgbClr val="898989"/>
                </a:solidFill>
                <a:latin typeface="Calibri"/>
              </a:rPr>
              <a:t>Role of Deposit Insurance in Bank Resolution Framework – Lessons from the Financial Crisi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2700" spc="-1" strike="noStrike">
                <a:solidFill>
                  <a:srgbClr val="898989"/>
                </a:solidFill>
                <a:latin typeface="Calibri"/>
              </a:rPr>
              <a:t>November 13-16, 2011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2700" spc="-1" strike="noStrike">
                <a:solidFill>
                  <a:srgbClr val="898989"/>
                </a:solidFill>
                <a:latin typeface="Calibri"/>
              </a:rPr>
              <a:t>JODHPUR, INDIA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3" descr=""/>
          <p:cNvPicPr/>
          <p:nvPr/>
        </p:nvPicPr>
        <p:blipFill>
          <a:blip r:embed="rId1"/>
          <a:stretch/>
        </p:blipFill>
        <p:spPr>
          <a:xfrm>
            <a:off x="4000680" y="5214960"/>
            <a:ext cx="1109520" cy="14587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" descr="IADI_4_ltr"/>
          <p:cNvPicPr/>
          <p:nvPr/>
        </p:nvPicPr>
        <p:blipFill>
          <a:blip r:embed="rId2"/>
          <a:stretch/>
        </p:blipFill>
        <p:spPr>
          <a:xfrm>
            <a:off x="6000840" y="0"/>
            <a:ext cx="2651040" cy="10126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"/>
          <p:cNvPicPr/>
          <p:nvPr/>
        </p:nvPicPr>
        <p:blipFill>
          <a:blip r:embed="rId3"/>
          <a:stretch/>
        </p:blipFill>
        <p:spPr>
          <a:xfrm>
            <a:off x="0" y="0"/>
            <a:ext cx="4575240" cy="990720"/>
          </a:xfrm>
          <a:prstGeom prst="rect">
            <a:avLst/>
          </a:prstGeom>
          <a:ln w="0">
            <a:noFill/>
          </a:ln>
        </p:spPr>
      </p:pic>
      <p:sp>
        <p:nvSpPr>
          <p:cNvPr id="53" name="Slide Number Placeholder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F411E-FCEE-4719-98E3-B6C22DE1F1BB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able of Conten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Key Factors Leading to the Cris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rosion of regulatory standar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ructural weakness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day’s Policy Agend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trengthen supervision and regul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ddress systemic ris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ooking Forwar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6980E-41BC-49C7-A701-869A18EB13F3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4000" spc="-1" strike="noStrike">
                <a:solidFill>
                  <a:srgbClr val="000000"/>
                </a:solidFill>
                <a:latin typeface="Calibri"/>
              </a:rPr>
              <a:t>Key Factors Leading to the Crisis: </a:t>
            </a:r>
            <a:r>
              <a:rPr b="0" lang="en-IN" sz="3600" spc="-1" strike="noStrike">
                <a:solidFill>
                  <a:srgbClr val="000000"/>
                </a:solidFill>
                <a:latin typeface="Calibri"/>
              </a:rPr>
              <a:t>Erosion of Regulatory Standard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700" spc="-1" strike="noStrike">
                <a:solidFill>
                  <a:srgbClr val="000000"/>
                </a:solidFill>
                <a:latin typeface="Calibri"/>
              </a:rPr>
              <a:t>Weak Capital Standards/High Leverag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200" spc="-1" strike="noStrike">
                <a:solidFill>
                  <a:srgbClr val="000000"/>
                </a:solidFill>
                <a:latin typeface="Calibri"/>
              </a:rPr>
              <a:t>Amounts, quality and cyclicality of capit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700" spc="-1" strike="noStrike">
                <a:solidFill>
                  <a:srgbClr val="000000"/>
                </a:solidFill>
                <a:latin typeface="Calibri"/>
              </a:rPr>
              <a:t>Weak Liquidity Standard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200" spc="-1" strike="noStrike">
                <a:solidFill>
                  <a:srgbClr val="000000"/>
                </a:solidFill>
                <a:latin typeface="Calibri"/>
              </a:rPr>
              <a:t>High levels of uninsured short-term funding susceptible to panic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200" spc="-1" strike="noStrike">
                <a:solidFill>
                  <a:srgbClr val="000000"/>
                </a:solidFill>
                <a:latin typeface="Calibri"/>
              </a:rPr>
              <a:t>Deposit insurance is a necessary, but not a sufficient condi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700" spc="-1" strike="noStrike">
                <a:solidFill>
                  <a:srgbClr val="000000"/>
                </a:solidFill>
                <a:latin typeface="Calibri"/>
              </a:rPr>
              <a:t>Weak Underwriting Standard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200" spc="-1" strike="noStrike">
                <a:solidFill>
                  <a:srgbClr val="000000"/>
                </a:solidFill>
                <a:latin typeface="Calibri"/>
              </a:rPr>
              <a:t>Low down payments, weak documentation, etc. fuel excessive lending and housing bubbl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200" spc="-1" strike="noStrike">
                <a:solidFill>
                  <a:srgbClr val="000000"/>
                </a:solidFill>
                <a:latin typeface="Calibri"/>
              </a:rPr>
              <a:t>Consumer, business and government debt level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200" spc="-1" strike="noStrike">
                <a:solidFill>
                  <a:srgbClr val="000000"/>
                </a:solidFill>
                <a:latin typeface="Calibri"/>
              </a:rPr>
              <a:t>Fuels boom-to-bust cycl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739800" cy="973080"/>
          </a:xfrm>
          <a:prstGeom prst="rect">
            <a:avLst/>
          </a:prstGeom>
          <a:ln w="0">
            <a:noFill/>
          </a:ln>
        </p:spPr>
      </p:pic>
      <p:sp>
        <p:nvSpPr>
          <p:cNvPr id="60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9C716-276D-4AA4-83F4-121B5C1F2E1E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Key Factors Leading to the Crisis: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tructural Weakness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lexity, Lack of Transparenc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ack of trust contributes to pani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ability to differentiate between institu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ew market instruments contribute to the downward spiral in the value of collateral once the bubble burs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aps in Financial Regulatory Oversigh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hadow banking system – MMMFs, SIVs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terdependencies/Systemic ris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92E12-6315-4C5C-B452-43255C16FC79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day’s Policy Agenda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1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trengthen Bank Supervision/Regulatio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pital standards, Liquidity standar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olcker ru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sumer/Investor protec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ddress Systemic Risk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stemic risk regulat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igher regulatory standards for SIFI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velop effective bank resolution mechanism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etter cross border coordina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entral clearing houses for OTC derivative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8BA1C-FD0B-4A99-8607-F17EED561093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day’s Policy Agenda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hance Market Discipli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reater transparenc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nd Too-Big-To-Fai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using Reform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overnment support for Fannie/Freddi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oan Modifications/ Foreclosur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13420-432F-4D9C-B1A1-DCEA709F603D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oking Forwar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e are at the early stages of financial reform implementation – unclear whether long-term or short-term perspectives will prevai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ere will be many unintended consequences as reform measures are implement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One likely result will be a smaller, more expensive, financial syste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nancial crises will remain a fact of lif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gulators will need sufficient authority and flexibility to deal with these even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0AF50-DDF8-4E2D-9A79-C51DF4B8487E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9T09:13:47Z</dcterms:created>
  <dc:creator>khajra</dc:creator>
  <dc:description/>
  <dc:language>en-US</dc:language>
  <cp:lastModifiedBy>John Bovenzi</cp:lastModifiedBy>
  <dcterms:modified xsi:type="dcterms:W3CDTF">2011-11-08T16:44:56Z</dcterms:modified>
  <cp:revision>20</cp:revision>
  <dc:subject/>
  <dc:title>Slide 1</dc:title>
</cp:coreProperties>
</file>