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7131050" cy="9417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7131600" cy="9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096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4039920" y="0"/>
            <a:ext cx="309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211040" y="706320"/>
            <a:ext cx="4709880" cy="3532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move the slide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0" y="8945280"/>
            <a:ext cx="309096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4039920" y="8945280"/>
            <a:ext cx="309060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486F-18D2-477D-BB17-375004CD03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211400" y="706320"/>
            <a:ext cx="4709880" cy="353232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712440" y="4473720"/>
            <a:ext cx="5707080" cy="42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4040280" y="8945640"/>
            <a:ext cx="309060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4846-7DAA-4389-8070-094E46C556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CB18-CB17-45D0-997F-A18A86873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467-A053-4745-8FB0-816BB6B2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0BFBA-42F3-473F-824C-D222C70B7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59DB-30AE-4BE7-B204-0E33919E4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A622-056D-497E-B2B8-5B52C9A59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0572BA-2395-4269-B890-1E4527E2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9C36E-4546-4BD8-A1EC-8A8C3E3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61F54-ED47-4F66-A777-F63011185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E520-A767-47F8-948F-E0FE8B982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46AC7-FF3D-4714-9FC2-3AD539A4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8902-2316-4639-BDEC-6853A748A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0FFB-817D-4E26-9C4A-82E0B7B8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A6C46-1E3A-4562-B874-0244570D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FB7D9-BCCE-4E97-8E53-389815E4D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E2C4A-72E0-434F-99D0-CCF7FF44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11A8-170E-4D66-9E28-6C388FFDC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640A-DBDE-432B-A4D7-B3A0B2B4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EF63CD-FEDA-4E6B-891C-CFDCE6D5B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434E9-C834-46EF-BC50-C2715EE44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1142AA-3B54-4339-89F3-38AAB7E8B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86B097-38A6-46E5-9F34-7C6B30C24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5F779DA-CD30-4566-A69B-DCC7CB038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2B40A-8DBD-4651-BB79-F6F962AF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B7849C-E11F-41FC-8F87-FBAB0897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19D87B-7895-433A-A470-1BC7FD15E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3927E9-EDED-485F-9B3A-5F26350B8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EE6088-0EE4-4A15-B458-673988944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3923E7-35DD-4431-98B1-F58C426BE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639A97-611F-4E66-87E5-14F8448ED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DFFA17-3584-42E9-85B5-52C997A7C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EC925C-0144-4C9A-BB94-A033307A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1781F-4D64-4BAE-90E9-7576EC561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5664E-9E63-44DE-98F8-9E3D0635E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BC0F-127A-4EAF-8030-6922074E8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A2611-75F6-466B-8A4D-57712C41C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E4834-27F2-46DB-8D88-A2E87DE37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CACA51-1CB1-4502-966B-AB9C48F4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F5885E-ABD9-4C5D-84D4-2F963F0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83A6A8-1816-4869-8A12-BBE54C6C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26A76-95A1-48CC-BB5B-AAE33526F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3EB98-9FCB-465B-BEF6-322B82A84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4964D-F1B3-49EC-8064-E6A44E697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964697-2F63-4954-B2DE-13CA4D13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000-185A-4E67-ADE6-366923E97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7AB3-95B4-461D-BF5D-42B20C5E2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E9C1-8B9C-4F53-9634-3762EAFA8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2E2CE-3550-4C5D-A5E3-BD300C4CA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8B01-A198-4EC2-B112-5F40E98E9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EC05A-BBCE-432A-8481-199137AB4DCF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2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Rectangle 23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Rectangle 24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Rectangle 25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Rectangle 26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Rounded Rectangle 29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ounded Rectangle 30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9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10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8FA22-CD34-44D3-A338-221B5D893EAC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1C9A3-1988-456E-8D87-AEEF1C74DB1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0C2C-2543-48A3-84E2-26AE9323599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1981080"/>
            <a:ext cx="84582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rebuchet MS"/>
              </a:rPr>
              <a:t>ELEMENTS OF A BANK RESOLUTION FRAMEWORK</a:t>
            </a:r>
            <a:endParaRPr b="0" lang="en-US" sz="4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304920" y="44956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Wouter Bossu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24456"/>
                </a:solidFill>
                <a:latin typeface="Georgia"/>
              </a:rPr>
              <a:t>IMF Legal Department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The views expressed herein are those of the author and should not be attributed to the IMF, its Executive Board, or its management.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24456"/>
                </a:solidFill>
                <a:latin typeface="Georgi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Georgia"/>
            </a:endParaRPr>
          </a:p>
          <a:p>
            <a:pPr marL="6336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24456"/>
                </a:solidFill>
                <a:latin typeface="Georgia"/>
              </a:rPr>
              <a:t>Jodhpur, India - 2011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223" name="Picture 3" descr=""/>
          <p:cNvPicPr/>
          <p:nvPr/>
        </p:nvPicPr>
        <p:blipFill>
          <a:blip r:embed="rId1"/>
          <a:stretch/>
        </p:blipFill>
        <p:spPr>
          <a:xfrm>
            <a:off x="7924680" y="5638680"/>
            <a:ext cx="9144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981080"/>
            <a:ext cx="8229600" cy="45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E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Institutional Aspect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 designation and mandates of the bank resolution agency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teraction with DGS?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Where relevant, adequate coordination mechanisms with micro-prudential supervisor and central bank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learly defined role for MoF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oordination with Market and Competition Authorities may also be releva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11430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onclusions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e orderly resolution of banks requires a specific legal framework that: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lances private and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vides a well-calibrated institutional set-up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allows to restructure banks rapidly and flexibly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omprises robust supportive mechanisms that go beyond insolvency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KEY TAKE-AWAYS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Banks are businesses of a very particular nature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which makes it difficult to resolve them under general insolvency law..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...and requires specific, carefully designed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ROADMAP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pecific Nature of Ban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Problems with General Insolvency Law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spcAft>
                <a:spcPts val="2999"/>
              </a:spcAft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esign Features of Bank Resolution Framework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1.Specific Nature of Banks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are different from ordinary commercial or industrial businesses for the following 4 reason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1. Liabilitie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y be short-term, to the public, insured (DGS), backstopped by other banks, or guaranteed by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2. Assets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vulnerable to rapid quality deterioration in case of insolvency of b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3. Systemic Nature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s may be systematically relevant; their disorderly  failure would cause other banks to fail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Georgia"/>
              </a:rPr>
              <a:t>4. Official Financial Support—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ften financial support from central bank and/or MoF, possibly combined with explicit or implicit back-up of DGS by the State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8377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2</a:t>
            </a:r>
            <a:r>
              <a:rPr b="1" lang="en-US" sz="3600" spc="-1" strike="noStrike">
                <a:solidFill>
                  <a:srgbClr val="424456"/>
                </a:solidFill>
                <a:latin typeface="Trebuchet MS"/>
              </a:rPr>
              <a:t>. </a:t>
            </a:r>
            <a:r>
              <a:rPr b="1" lang="en-US" sz="3200" spc="-1" strike="noStrike">
                <a:solidFill>
                  <a:srgbClr val="424456"/>
                </a:solidFill>
                <a:latin typeface="Trebuchet MS"/>
              </a:rPr>
              <a:t>Problems with General Insolvency Law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1904760"/>
            <a:ext cx="822960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General insolvency law is ill-suited to deal with ailing banks for the following reasons: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creditor-driven procedures insufficiently internalize financial stability and fiscal cost concerns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the threshold for intervention is too lat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bankruptcy trustees have little understanding of nature of banks and connection with financial system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insolvency toolkit is too blunt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automatic and full moratorium rapidly destroys value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Georgia"/>
              </a:rPr>
              <a:t>lengthy procedures cause public to distrust other banks, which may cause run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424456"/>
                </a:solidFill>
                <a:latin typeface="Trebuchet MS"/>
              </a:rPr>
              <a:t>3. </a:t>
            </a:r>
            <a:r>
              <a:rPr b="1" lang="en-US" sz="2600" spc="-1" strike="noStrike">
                <a:solidFill>
                  <a:srgbClr val="424456"/>
                </a:solidFill>
                <a:latin typeface="Trebuchet MS"/>
              </a:rPr>
              <a:t>Design Features of Bank Resolution Frameworks</a:t>
            </a:r>
            <a:endParaRPr b="0" lang="en-US" sz="2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38088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spcBef>
                <a:spcPts val="1199"/>
              </a:spcBef>
              <a:buClr>
                <a:srgbClr val="a04da3"/>
              </a:buClr>
              <a:buFont typeface="Georgia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Broader Public Policy Objective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ank resolution frameworks pursue essentially three public policy objective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nancial instabilit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inimizing fiscal cos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atisfying creditors according to their rank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spcBef>
                <a:spcPts val="300"/>
              </a:spcBef>
              <a:buClr>
                <a:srgbClr val="a04da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he public interest may justify infringing upon shareholder and creditors rights beyond what is typical in general insolvency law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1" lang="en-US" sz="24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4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752120"/>
            <a:ext cx="822960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611280" indent="-50400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B.</a:t>
            </a: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Early Shift toward Official Contro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ost bank resolution frameworks include mechanism to shift control over troubled bank to (non-judiciary) official sector before insolvency triggers are me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uch “official administration” regimes typically feature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1800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appointment and steering by central bank/supervisory agency 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based upon quantitative and/or qualitative trigg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with mandate to assess the bank, restructure when possible, and prepare         for liquidation if unavoidable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lvl="1" marL="267120" indent="-26712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eorgia"/>
              </a:rPr>
              <a:t>Replacement of board of directors, and sometimes also general assembly of shareholders</a:t>
            </a:r>
            <a:endParaRPr b="0" lang="en-US" sz="1900" spc="-1" strike="noStrike">
              <a:solidFill>
                <a:srgbClr val="438086"/>
              </a:solidFill>
              <a:latin typeface="Georgia"/>
            </a:endParaRPr>
          </a:p>
          <a:p>
            <a:pPr marL="611280" indent="-5040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24456"/>
                </a:solidFill>
                <a:latin typeface="Trebuchet MS"/>
              </a:rPr>
              <a:t>3</a:t>
            </a:r>
            <a:r>
              <a:rPr b="0" lang="en-US" sz="2700" spc="-1" strike="noStrike">
                <a:solidFill>
                  <a:srgbClr val="424456"/>
                </a:solidFill>
                <a:latin typeface="Trebuchet MS"/>
              </a:rPr>
              <a:t>. Design Features of Bank Resolution Frameworks</a:t>
            </a:r>
            <a:endParaRPr b="0" lang="en-US" sz="27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533520" y="1599840"/>
            <a:ext cx="8229600" cy="447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C.</a:t>
            </a:r>
            <a:r>
              <a:rPr b="0" lang="en-US" sz="26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Flexible Resolution Tool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Adequate bank resolution frameworks include the following tools to resolve ailing banks: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Transfer of Assets (including systemically relevant activities) and Liabilities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Forced Mergers (“shotgun wedding”)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Mandatory Private and Public Recapitaliz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Orderly Liquidation</a:t>
            </a:r>
            <a:endParaRPr b="0" lang="en-US" sz="24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eorgia"/>
              </a:rPr>
              <a:t>Some countries have also included mandatory debt restructuring in their tool kit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lvl="1" marL="272880" indent="-272880">
              <a:lnSpc>
                <a:spcPct val="80000"/>
              </a:lnSpc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38086"/>
              </a:solidFill>
              <a:latin typeface="Georgia"/>
            </a:endParaRPr>
          </a:p>
          <a:p>
            <a:pPr marL="623880" indent="-51444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456"/>
                </a:solidFill>
                <a:latin typeface="Trebuchet MS"/>
              </a:rPr>
              <a:t>3. Design Features of Bank Resolution Frameworks</a:t>
            </a:r>
            <a:endParaRPr b="0" lang="en-US" sz="2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7524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D.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Georgia"/>
              </a:rPr>
              <a:t>Supportive Mechanisms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800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Legal underpinnings for official financial support in budget or other law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teraction with DGS rules: may DGS “top up” P&amp;A?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Depositor preference 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Flexible moratoria/stays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Insolvency protection for new financing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Protection for netting, financial contracts and collateral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1199"/>
              </a:spcBef>
              <a:spcAft>
                <a:spcPts val="1199"/>
              </a:spcAft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Transfer mechanisms for financial contract</a:t>
            </a:r>
            <a:r>
              <a:rPr b="0" lang="en-US" sz="1700" spc="-1" strike="noStrike">
                <a:solidFill>
                  <a:srgbClr val="000000"/>
                </a:solidFill>
                <a:latin typeface="Georgia"/>
              </a:rPr>
              <a:t>s</a:t>
            </a: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7:01:56Z</dcterms:created>
  <dc:creator>mhernandez</dc:creator>
  <dc:description/>
  <dc:language>en-US</dc:language>
  <cp:lastModifiedBy>Wbossu</cp:lastModifiedBy>
  <dcterms:modified xsi:type="dcterms:W3CDTF">2011-11-09T20:05:44Z</dcterms:modified>
  <cp:revision>64</cp:revision>
  <dc:subject/>
  <dc:title>ELEMENTS OF A BANK RESOLUTION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