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4EE1-3702-40D5-B3CA-FAD88B2EB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AAA0-FD0B-4BF9-86E0-69E8A1C85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FBB9-A471-4994-8AA5-B337C319A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CDD7-D299-44E1-BEAF-B1FAAE69C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3DD2-BC37-4168-913A-75728D2BA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B7B1-281A-493F-AF07-B2DB642A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2302-0E20-494A-9EC8-DFF91F4A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DF65-03FD-4CB2-A679-FB48BD1E5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6F72-0A09-4135-ABBE-EC0FEAB2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6C20-6272-476D-B7C3-FDF43E91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FF25-1884-486A-89D3-FEF153FB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D70F-8409-4CCE-8BC2-3EF3A95B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0858-3178-4B85-8467-28DF4F7005F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0AC7E-1C2E-43F4-BA8B-E978F26B904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hyperlink" Target="http://www.asv.org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1357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Calibri"/>
              </a:rPr>
              <a:t>Lessons from the Financial Crisis for Bank Resolution: Russia</a:t>
            </a:r>
            <a:r>
              <a:rPr b="0" lang="en-US" sz="40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kolay Evstratenko, DIA Russ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760" y="3429000"/>
            <a:ext cx="82152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898989"/>
                </a:solidFill>
                <a:latin typeface="Calibri"/>
              </a:rPr>
              <a:t>Role of Deposit Insurance in Bank Resolution Framework – Lessons from the Financial Cris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898989"/>
                </a:solidFill>
                <a:latin typeface="Calibri"/>
              </a:rPr>
              <a:t>November 13-16, 2011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898989"/>
                </a:solidFill>
                <a:latin typeface="Calibri"/>
              </a:rPr>
              <a:t>JODHPUR, IND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642960" y="5072040"/>
            <a:ext cx="1109520" cy="14590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IADI_4_ltr"/>
          <p:cNvPicPr/>
          <p:nvPr/>
        </p:nvPicPr>
        <p:blipFill>
          <a:blip r:embed="rId2"/>
          <a:stretch/>
        </p:blipFill>
        <p:spPr>
          <a:xfrm>
            <a:off x="6000840" y="0"/>
            <a:ext cx="2651040" cy="1012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4575240" cy="990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6" descr="Рисунок1"/>
          <p:cNvPicPr/>
          <p:nvPr/>
        </p:nvPicPr>
        <p:blipFill>
          <a:blip r:embed="rId4"/>
          <a:stretch/>
        </p:blipFill>
        <p:spPr>
          <a:xfrm>
            <a:off x="6443640" y="5300640"/>
            <a:ext cx="2158920" cy="1092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9EC38-73EB-4964-B41C-04260241BC19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vention of Bank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ailures: Figu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8" name="Rectangle 9"/>
          <p:cNvSpPr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Banks where the Agency particip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in bankruptcy prevention measures: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- Financial assistance to investors that purchas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majority stake in a failing bank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14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- Banks in which the Agency beca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556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the sole shareholde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 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 Purchase &amp; Assumption  (partial)                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 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ompleted Projects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                                   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355680"/>
                <a:tab algn="l" pos="723960"/>
                <a:tab algn="l" pos="1066680"/>
                <a:tab algn="l" pos="1422360"/>
                <a:tab algn="l" pos="1778040"/>
                <a:tab algn="l" pos="2133720"/>
                <a:tab algn="l" pos="2489040"/>
                <a:tab algn="l" pos="2844720"/>
                <a:tab algn="l" pos="3200400"/>
                <a:tab algn="l" pos="3556080"/>
                <a:tab algn="l" pos="3911760"/>
                <a:tab algn="l" pos="4267080"/>
                <a:tab algn="l" pos="4622760"/>
                <a:tab algn="l" pos="4978440"/>
                <a:tab algn="l" pos="5334120"/>
                <a:tab algn="l" pos="5689440"/>
                <a:tab algn="l" pos="6045120"/>
                <a:tab algn="l" pos="6400800"/>
                <a:tab algn="l" pos="6756480"/>
                <a:tab algn="l" pos="7112160"/>
                <a:tab algn="l" pos="7467480"/>
                <a:tab algn="l" pos="78231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45F4-57D5-49F7-A3FE-4A70548BA25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vention of Bank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ailures: Sources of Funding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3" name="Rectangle 8"/>
          <p:cNvSpPr/>
          <p:nvPr/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Private Investors’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Special Government Property Contribution (200 billion Rubles ≈ US$6.5 bill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Bank of Russia loa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Deposit Insurance F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401"/>
              </a:spcBef>
              <a:buClr>
                <a:srgbClr val="ffffff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44FFE-47F0-4FC9-9046-32D55AF17D0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ey Lesson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rom the Crisis (1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08" name="Rectangle 7"/>
          <p:cNvSpPr/>
          <p:nvPr/>
        </p:nvSpPr>
        <p:spPr>
          <a:xfrm>
            <a:off x="39528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he deposit insurer needs (should have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depen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bility to respond quick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chanism to promptly reimburse deposito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s to financial dat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egal protection from lawsuits in the normal course of bus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ose, prompt and effective interactions with other safety-net particip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ccess to adequate funding (primary and secondary sourc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ublic awareness of and confidence in the deposit insuranc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E9C3F-8128-4DF8-9994-5298CF3823EF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Key Lessons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rom the Crisis (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3" name="Rectangle 6"/>
          <p:cNvSpPr/>
          <p:nvPr/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Key features of resolution regime that help the deposit insurer to meet its objectiv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pecial resolution regime for banks (financial institu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signated resolution authority responsible for exercising resolution powers – timely and 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covery and resolution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ffective failure resolution tools both for preventing bank failures (such as bail-in mechanisms, living wills) and for resolving failed banks (including P&amp;A, bridge-bank, assisted mergers, capital injections, etc.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chanism for information sharing among safety-net participants at all stages of planning and implementation of recovery and resolu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B085A-998F-4291-ADF7-2B143116F6FC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7" name="Rectangle 6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eposit Insurance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cow,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asv.org.ru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65341-7CF2-4987-BC0A-B2F6179CD254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Key Ev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4 (January) – Establishment of Deposit Insurance Agency (DIA) (pay-bo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4 (August) – Function of liquidation of failed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008 (October) – Function of prevention of bank failures (systemically important bank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73703-BF8F-474B-83E2-048449103A4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Deposit Insura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56" name="Rectangle 6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October 2008 the DI coverage was increased from 400,000 rubles to 700,000 ru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insurance was abolish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 premium rate was decreased (liquidity suppo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youts to insured depositors start within 14 days after banking license withdrawal by the Bank of Rus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6322-9A3C-4C87-A5D2-312588A72CA5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Deposit Insurance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Figu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1" name="Rectangle 3"/>
          <p:cNvSpPr/>
          <p:nvPr/>
        </p:nvSpPr>
        <p:spPr>
          <a:xfrm>
            <a:off x="395280" y="1700280"/>
            <a:ext cx="8748720" cy="551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0040" indent="-230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amount of insured deposits – 9798 billion rubles (≈ US$320 bill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DIS member banks – 9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posit Insurance Fund – 146 billion rubles (≈ US$4.9 bill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surance coverage limit per depositor per bank – 700,000 rubles. (≈ US$23 thousa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umber of insured events – 114 (58 in 2008-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number of depositors of failed banks that received deposit insurance reimbursement  &gt; 350 thous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0040" indent="-230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tal amount of insured deposits in failed banks – 58 billion rubles (≈US$1.9 bill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EA62-2BDD-4AEC-BF19-252B82B8625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quidation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of Failed Ban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66" name="Text Box 7"/>
          <p:cNvSpPr/>
          <p:nvPr/>
        </p:nvSpPr>
        <p:spPr>
          <a:xfrm>
            <a:off x="684360" y="2133720"/>
            <a:ext cx="7707240" cy="161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al Bank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okes banking licens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oints provisional administr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es to the court to declare the bank insolvent/invi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684360" y="4221000"/>
            <a:ext cx="77054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court appoints DIA a liquidator/receiver of the failed bank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684360" y="5229360"/>
            <a:ext cx="77072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A as the receiver is accountable to the court, Central Bank and bank cre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D27F-ED44-4DEF-BC74-C39953C5C44B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139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quidation of Failed Banks: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ain Tasks of DIA as Receiv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73" name="Text Box 7"/>
          <p:cNvSpPr/>
          <p:nvPr/>
        </p:nvSpPr>
        <p:spPr>
          <a:xfrm>
            <a:off x="611280" y="2073240"/>
            <a:ext cx="72756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ment and approval of business plan and budget of receivership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7"/>
          <p:cNvSpPr/>
          <p:nvPr/>
        </p:nvSpPr>
        <p:spPr>
          <a:xfrm>
            <a:off x="609480" y="3008160"/>
            <a:ext cx="72756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ntory and appraisal of the bank’s property, collection/liquidation of its assets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611280" y="3873600"/>
            <a:ext cx="7275600" cy="100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rification and acceptance of creditor claims, preparation of the register of creditor claims, settlements with creditors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611280" y="5157720"/>
            <a:ext cx="72738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blications and progress reports on the course of receivership</a:t>
            </a:r>
            <a:r>
              <a:rPr b="1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611280" y="6093000"/>
            <a:ext cx="727560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eeece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vestigations and Litig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0D833-C321-4926-A467-962E1ED77402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Liquidation of Failed 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Banks: Figu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2" name="Rectangle 6"/>
          <p:cNvSpPr/>
          <p:nvPr/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806400" indent="-357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A has been appointed as receiver in 271 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06400" indent="-357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leted liquidation proceedings - 161 ban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06400" indent="-357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oing on liquidation proceedings – 110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an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704B0-7328-480F-B250-F7B66EC81128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Prevention of Bank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Failures: Condi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87" name="Rectangle 7"/>
          <p:cNvSpPr/>
          <p:nvPr/>
        </p:nvSpPr>
        <p:spPr>
          <a:xfrm>
            <a:off x="1187280" y="1844640"/>
            <a:ext cx="6778800" cy="69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gency participates in prevention of bankruptcy of a bank in case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395280" y="285264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ic importance of a failing bank for the national economy in general or for a particular reg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ocial importance of a ba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st-effectiveness for the Deposit Insurance Fund of financial rehabilitation in comparison to bankruptcy procee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3B958-994B-48C7-806E-FA8CD2AF36D7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Prevention of Bank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ailures: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Tools Available for the Ag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1074600" cy="1413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6" descr="Рисунок1"/>
          <p:cNvPicPr/>
          <p:nvPr/>
        </p:nvPicPr>
        <p:blipFill>
          <a:blip r:embed="rId2"/>
          <a:stretch/>
        </p:blipFill>
        <p:spPr>
          <a:xfrm>
            <a:off x="6875640" y="0"/>
            <a:ext cx="2268360" cy="1146240"/>
          </a:xfrm>
          <a:prstGeom prst="rect">
            <a:avLst/>
          </a:prstGeom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93" name="Rectangle 8"/>
          <p:cNvSpPr/>
          <p:nvPr/>
        </p:nvSpPr>
        <p:spPr>
          <a:xfrm>
            <a:off x="46836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izational assistance (e.g. in finding a potential private investor for a failing ban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nancial assistance (e.g. providing monetary resources (secured loans) to new investor(s), purchasing assets in the course of bank rehabilitation, capital injection (solely or together with investors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ransfer of a failing bank’s assets and liabilities to a sound bank (purchase and assump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09:13:47Z</dcterms:created>
  <dc:creator>khajra</dc:creator>
  <dc:description/>
  <dc:language>en-US</dc:language>
  <cp:lastModifiedBy>khajra</cp:lastModifiedBy>
  <dcterms:modified xsi:type="dcterms:W3CDTF">2011-11-08T07:08:04Z</dcterms:modified>
  <cp:revision>19</cp:revision>
  <dc:subject/>
  <dc:title>Slide 1</dc:title>
</cp:coreProperties>
</file>