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CE3F-7FD6-475D-A982-4CD444850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CE0E5-4A43-4493-BD97-6B863AD9B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D335-ECE5-4421-ADF3-8F9D931D3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5966-74C7-415A-8D8E-5850DB4D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29BE-B527-425C-9AF1-9A3334E07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BB66-0A99-4DE2-8A6C-90F2ED3E0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087D-0AB0-481F-B4C0-E81EDB61F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18A6F-4494-4623-8215-477DA3CC1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984A-AD89-4C92-B58F-5B21823E1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858B-2C99-4235-A4FF-9E39F4D8B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D8407-1C32-40B7-89A5-B10BBE86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87EA1-47B6-46CE-B19B-760CE4D16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7B3F-AE1E-4FF9-A81B-079260E5FBC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E6B01-1635-4109-8959-8046B9C7BDA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587D2-4000-470B-AB8D-354B2CD9C79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Bank Resolution Framework: International Best Practi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Role of Deposit Insurance in Bank Resolution Framework – Lessons from the Financial Cr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November 13-16, 201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JODHPUR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000680" y="5214960"/>
            <a:ext cx="1109520" cy="1458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IADI_4_ltr"/>
          <p:cNvPicPr/>
          <p:nvPr/>
        </p:nvPicPr>
        <p:blipFill>
          <a:blip r:embed="rId2"/>
          <a:stretch/>
        </p:blipFill>
        <p:spPr>
          <a:xfrm>
            <a:off x="6000840" y="0"/>
            <a:ext cx="2651040" cy="10126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575240" cy="990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614920" y="5229360"/>
            <a:ext cx="3529080" cy="11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jay Deshp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ffice of International Affai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DIC - U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5308-E464-4646-80F9-1FA413FE356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  <p:sp>
        <p:nvSpPr>
          <p:cNvPr id="50" name="Oval 5"/>
          <p:cNvSpPr/>
          <p:nvPr/>
        </p:nvSpPr>
        <p:spPr>
          <a:xfrm>
            <a:off x="1116000" y="836640"/>
            <a:ext cx="3960720" cy="4032360"/>
          </a:xfrm>
          <a:prstGeom prst="ellipse">
            <a:avLst/>
          </a:prstGeom>
          <a:noFill/>
          <a:ln w="139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6"/>
          <p:cNvSpPr/>
          <p:nvPr/>
        </p:nvSpPr>
        <p:spPr>
          <a:xfrm>
            <a:off x="3635280" y="836640"/>
            <a:ext cx="4106880" cy="4030560"/>
          </a:xfrm>
          <a:prstGeom prst="ellipse">
            <a:avLst/>
          </a:prstGeom>
          <a:noFill/>
          <a:ln w="139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7"/>
          <p:cNvSpPr/>
          <p:nvPr/>
        </p:nvSpPr>
        <p:spPr>
          <a:xfrm>
            <a:off x="2268360" y="2276640"/>
            <a:ext cx="4248360" cy="4105080"/>
          </a:xfrm>
          <a:prstGeom prst="ellipse">
            <a:avLst/>
          </a:prstGeom>
          <a:noFill/>
          <a:ln w="13968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1403280" y="1989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olvency Framewor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1"/>
          <p:cNvSpPr/>
          <p:nvPr/>
        </p:nvSpPr>
        <p:spPr>
          <a:xfrm>
            <a:off x="5796000" y="1916280"/>
            <a:ext cx="194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SB’s Key Attributes for Bank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87640" y="4724280"/>
            <a:ext cx="266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ssessing Compliance with Core Principles for Effective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3635280" y="278748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IADI Guid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0" y="1341360"/>
            <a:ext cx="14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Hoelsc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7667640" y="141300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vid Wal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5796000" y="5734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mudini Haj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56EF-7181-40F2-A280-74C516FAD651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FE5317-D057-4835-B51C-BFB35802DF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492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istorical Perspec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42720" y="1197000"/>
            <a:ext cx="84582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October 2006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CBS, in issuing Core Principles for Banking Supervision, acknowledged that a carefully designed system of deposit insurance can contribute to public confidence in the financial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07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DI initiated drafting of Core Principles for Effective Deposit Insurance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June 200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CBS and IADI issued the final version of Core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ember 2009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DI, BCBS, EFDI and IMF established a Steering Committee for the development of a Methodology for Assessing Compliance with the Core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F9EEA-1FBC-42AE-8F97-0920284F740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3B6F59-E0BF-46F5-ADF4-780B8BDA2F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797724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Historical Perspective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42440" y="1196640"/>
            <a:ext cx="8256600" cy="53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February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 Working Groups established to draft methodology. Members represented IADI, BCBS, EFDI, EC, IMF, and World Ban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y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hared draft methodology with 120 members of IADI, EFDI, BCB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eptember/ October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three pilot field tes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010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 Czech Republic, India, and Mexico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ecember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ublic consultation and feedbac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76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27 December 201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bmitted Final Methodology to FSB Chairman Mario Dragh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5467B-E456-4843-838F-61ADC9CB787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A5EABB9-6962-47C5-B990-34923B327E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Calibri"/>
              </a:rPr>
              <a:t>Recent Developm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97000"/>
            <a:ext cx="8763120" cy="53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rch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Executive Board of IMF supported the FSB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cision to introduce a new policy area o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isis Resolution and Deposit Insur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pril 2011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SB added Core Principles to its Compendium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f 12 Key  International Standards for Sound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nancial System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y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ndbook developed to guide Assessment of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liance with Core Princip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ay – Sept 2011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ducted Assessment workshops in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ashington, D.C., Tirana, Albania, and Basel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witzerla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FFC2-3D5E-4AFD-9C53-6FBE917F474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Extensive Training &amp; Outreach Progra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iance Assessment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MF/ World Bank (Round Tabl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ADI and EFDI membe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upervisory agencies, central banks, and ministries of fin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Washington, D.C., and Basel, Switzerl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lf-Assessment Worksho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irana, Alban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buja, Nig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Kuala Lumpur, Malays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atin America (TB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esentations at IADI and Regional Committee meet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09:01:00Z</dcterms:created>
  <dc:creator>khajra</dc:creator>
  <dc:description/>
  <dc:language>en-US</dc:language>
  <cp:lastModifiedBy>Kumudini Hajra</cp:lastModifiedBy>
  <dcterms:modified xsi:type="dcterms:W3CDTF">2011-11-05T09:01:15Z</dcterms:modified>
  <cp:revision>44</cp:revision>
  <dc:subject/>
  <dc:title>Slide 1</dc:title>
</cp:coreProperties>
</file>