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48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7BC5-9AFB-43A9-9D27-DECD5061C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A117-F439-4E9A-91F1-2818A3A460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7B0C-5532-4BB6-AB52-6440E5BF6C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CE22-0C8E-48D2-84C7-63BBCFBFFB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63E0-199A-4895-8F06-B1E2358D06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FFFC-CEB6-4C22-9E63-5036FCD3C4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390C-4D25-4873-BFE8-08A78692EF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8A0C-0F78-47F0-A119-B5F097DDBB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660A-F7B6-4771-98F6-88190BCA60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1365-6FD4-4C5D-BDA6-FA9D75C023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7016-82DB-44D4-9A99-C41B088DFD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BA5B-B9EC-4B9E-81A4-9C0E031FC5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6455-E073-4B84-ACAF-1B6A51EF12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FCA0-42F1-438B-9F14-E4AB0F8813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4485-FE55-43EC-8103-717018B102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8637-68A8-4365-84DA-74D86D0964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1862-311A-479A-9A3D-1811357C5B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89E-ED44-45DA-8DE9-AB7FA9D7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791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417-9292-4F85-8CE0-F4753F35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661-7C57-457B-9ACA-B30EBD7D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411-451D-4D95-BF36-7ECFB8DD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BF95-4BEC-4BDC-9EA5-F8916D00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07E2-1134-4A75-A79C-DB43857E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8840-08B5-4C7B-946E-91AB609C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AAC1-4BE8-4EC1-B3FC-55859F72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AC47-0E3A-414B-BCA5-AD21AD48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5542-0C41-41A8-BDEA-D5B15E75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188A-EEBE-4D0D-9C86-0D728132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43E-58E1-4B85-9FCC-7790D0F5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49E2-FF07-4EAB-A41E-B143A403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8B72-CF2C-4670-B5F5-1D841A30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791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3090-1142-41F6-86C4-DE4DD505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A27F-D4A0-4F80-AA7E-444A2A8F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FA7C-A34E-4970-9325-F3C62F9A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C03-D0DA-4F2D-9839-D8CD179E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EFD-1CCC-420C-96F5-0C10237E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DC9-AC74-4F5D-A558-E3F3164A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285-DAED-4139-AEC2-EC0E5E48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1E97-0484-44DA-B5F4-F99FF428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E7E-B695-4B4F-8E96-799EB241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86E-BC37-45ED-BAAC-36E1445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360" y="-15840"/>
            <a:ext cx="9180360" cy="6684840"/>
            <a:chOff x="-36360" y="-15840"/>
            <a:chExt cx="9180360" cy="6684840"/>
          </a:xfrm>
        </p:grpSpPr>
        <p:sp>
          <p:nvSpPr>
            <p:cNvPr id="1" name="Freeform 3"/>
            <p:cNvSpPr/>
            <p:nvPr/>
          </p:nvSpPr>
          <p:spPr>
            <a:xfrm>
              <a:off x="-36360" y="-15840"/>
              <a:ext cx="9165600" cy="66697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21600" y="-720"/>
              <a:ext cx="9165600" cy="666972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476000" y="5084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779640" y="5084640"/>
            <a:ext cx="289548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50920" y="64530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DFF0-E679-4537-81D0-6D05798EEFA9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biglogo"/>
          <p:cNvPicPr/>
          <p:nvPr/>
        </p:nvPicPr>
        <p:blipFill>
          <a:blip r:embed="rId3"/>
          <a:stretch/>
        </p:blipFill>
        <p:spPr>
          <a:xfrm>
            <a:off x="6629400" y="6019920"/>
            <a:ext cx="251460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>
            <a:off x="0" y="4292640"/>
            <a:ext cx="9144000" cy="259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0" y="0"/>
            <a:ext cx="9180000" cy="6021360"/>
            <a:chOff x="0" y="0"/>
            <a:chExt cx="9180000" cy="6021360"/>
          </a:xfrm>
        </p:grpSpPr>
        <p:sp>
          <p:nvSpPr>
            <p:cNvPr id="47" name="Freeform 4"/>
            <p:cNvSpPr/>
            <p:nvPr/>
          </p:nvSpPr>
          <p:spPr>
            <a:xfrm>
              <a:off x="14400" y="0"/>
              <a:ext cx="9165600" cy="60213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65600" cy="602136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pic>
        <p:nvPicPr>
          <p:cNvPr id="49" name="Picture 11" descr="biglogo"/>
          <p:cNvPicPr/>
          <p:nvPr/>
        </p:nvPicPr>
        <p:blipFill>
          <a:blip r:embed="rId3"/>
          <a:stretch/>
        </p:blipFill>
        <p:spPr>
          <a:xfrm>
            <a:off x="5869080" y="5734080"/>
            <a:ext cx="3240000" cy="1081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3E91-8EE2-4BA9-9920-F642280B05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57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dcf6"/>
                </a:solidFill>
                <a:latin typeface="Book Antiqua"/>
              </a:rPr>
              <a:t>Indonesia Deposit Insurance Corporation</a:t>
            </a:r>
            <a:r>
              <a:rPr b="1" lang="en-US" sz="4000" spc="-1" strike="noStrike">
                <a:solidFill>
                  <a:srgbClr val="9adcf6"/>
                </a:solidFill>
                <a:latin typeface="Book Antiqu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9adcf6"/>
                </a:solidFill>
                <a:latin typeface="Book Antiqua"/>
              </a:rPr>
              <a:t>FUNDING MECHANISM</a:t>
            </a:r>
            <a:r>
              <a:rPr b="1" lang="en-US" sz="3600" spc="-1" strike="noStrike">
                <a:solidFill>
                  <a:srgbClr val="9adcf6"/>
                </a:solidFill>
                <a:latin typeface="Book Antiqua"/>
              </a:rPr>
              <a:t> 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55640" y="4292640"/>
            <a:ext cx="5327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resented by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rdaus Djaelani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hief Executive Officer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79280" y="6237360"/>
            <a:ext cx="396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9160" indent="-608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Book Antiqua"/>
              </a:rPr>
              <a:t>8</a:t>
            </a:r>
            <a:r>
              <a:rPr b="0" lang="sv-SE" sz="1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sv-SE" sz="1400" spc="-1" strike="noStrike">
                <a:solidFill>
                  <a:srgbClr val="000000"/>
                </a:solidFill>
                <a:latin typeface="Book Antiqua"/>
              </a:rPr>
              <a:t> ARC Meeting &amp; International Conference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Book Antiqua"/>
              </a:rPr>
              <a:t>Goa – India, 18-20 January 2010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1" name="Picture 7" descr="C:\Users\pmitra\AppData\Local\Microsoft\Windows\Temporary Internet Files\Content.Outlook\FPXYD5H6\patch.jpg"/>
          <p:cNvPicPr/>
          <p:nvPr/>
        </p:nvPicPr>
        <p:blipFill>
          <a:blip r:embed="rId1"/>
          <a:stretch/>
        </p:blipFill>
        <p:spPr>
          <a:xfrm>
            <a:off x="1000080" y="290520"/>
            <a:ext cx="7566120" cy="1138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3400-1CCD-4855-8855-9A067F5C8DB7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5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Back-Up Funding (1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03280" y="1700280"/>
            <a:ext cx="6553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In order to have access to sufficient funding in time,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has fully back up from the Government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f IDIC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 encounter liquidity problem,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the Government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ovide liquidity support facility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e facility conditions includes interest rate, tenor, repayment, and other arrangements will be ruled in Government Regulation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ere is no ceiling limit for these faciliti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is not allowed to borrow directly from financial institutions or market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9E4C-70F9-4E14-B14C-D9C0E0A02ED5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9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Back-Up Funding (2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03280" y="1700280"/>
            <a:ext cx="65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When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 capital drops below its initial capital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 the Government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jects new capital to 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restore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 capital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restoring IDIC capital, Government could issue Bond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rough private placement, or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o the market, or to Central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e terms of bond issues include amount, interest rate, tenor, repayment of principle and interest, and other requirements will be ruled in Government Regulation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is not allowed to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raise funds through bond issuance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EFF7-4665-483E-9E96-3F6913ECFEA5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3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32000" y="1628640"/>
            <a:ext cx="648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ensure that IDIC has sufficient fund to fufill all of its duties, IDIC sets target Insurance Reserves and calculates Provision for Insurance Loss (PIL)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’s Insurance Reserves is targeted at the level of 2.5%of the insurable deposit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determinig the target level, IDIC taken into accounts : composition &amp; concentration of member banks (number, size, line of business), liabilities structures, probability of defaults, bank supervisory effectiveness, and failure experienc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0BCE-2689-44ED-B61E-07F8324299B4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332000" y="1628640"/>
            <a:ext cx="648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allocation of annual surplus : 80% for Insurance Reserves and 20% for Special Purpose Reserve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nual surplus imply IDIC’s one year  operational revenues minus operational expenses and corporate income tax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pecial Purpose Reserve is a fund which purposed to enhance capacity &amp; capability of IDIC in carrying out its duties and responsibilities such as for fixed assets, human capital, and IT expenditur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8" name="AutoShape 6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2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656B-C0FA-440B-9704-402C90691D1E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332000" y="1628640"/>
            <a:ext cx="648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7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nce the target of Insurance Reserves reach 2.5% of insurable deposits, all or part of the annual surplu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will be remitted as non-tax revenue to the Government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7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In user fee model approach, the Government bears all the risks associated with member bank failures, so member banks have no claim againts the Insurance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serv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7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Otherwise, the government could reduce the premium rate once the target fund met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2" name="AutoShape 5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3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633D-8D6C-4F94-9424-F1C06873DE41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87280" y="1628640"/>
            <a:ext cx="66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10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surance Reserves basically is an Une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xpected Losses (UL) that’s extraordinary losses of the DI Fund that can occur under unlikely, yet possible unfavorable outcomes, which, however, are not </a:t>
            </a:r>
            <a:r>
              <a:rPr b="0" lang="en-GB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considered a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systemic crisis scenario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10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ovision for Insurance Loss (PIL) i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Expected Losses (EL) that’s the “usual” or average losses that a DI Fund incurs under normal circumstances of deposit insurer’s busines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10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IDIC develops the method of calculating PIL using credit risk model approach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6" name="AutoShape 4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4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A2F5-2DDD-4A38-88C3-68066430E1F8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1332000" y="1700280"/>
            <a:ext cx="6912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Mathematically, PIL or EL is calculated as the sum of products of EAD, PD and LGD over the whole row of member banks: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 Antiqua"/>
              <a:buChar char="•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EAD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 – est. insured deposits in a member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PD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   – probability of default of a member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LGD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 – share of non-recoverable resources from the bankruptcy estate of a liquidated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2268360" y="2995560"/>
                <a:ext cx="5112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AutoShape 7"/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5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94C9-B7D7-4CEA-B141-D2825131F240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4" name="Kepala Eksekutif"/>
          <p:cNvSpPr/>
          <p:nvPr/>
        </p:nvSpPr>
        <p:spPr>
          <a:xfrm>
            <a:off x="2052720" y="1628640"/>
            <a:ext cx="4681440" cy="2876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Insurance Premium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5" name="Direktorat Klaim Dan Likuidasi Bank"/>
          <p:cNvSpPr/>
          <p:nvPr/>
        </p:nvSpPr>
        <p:spPr>
          <a:xfrm>
            <a:off x="1476360" y="5445000"/>
            <a:ext cx="525780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nual Surplu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6" name="Komite Informasi"/>
          <p:cNvSpPr/>
          <p:nvPr/>
        </p:nvSpPr>
        <p:spPr>
          <a:xfrm>
            <a:off x="2054160" y="3141720"/>
            <a:ext cx="468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Claim Reimbursements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7" name="Kepala Eksekutif"/>
          <p:cNvSpPr/>
          <p:nvPr/>
        </p:nvSpPr>
        <p:spPr>
          <a:xfrm>
            <a:off x="2052720" y="1989000"/>
            <a:ext cx="4681440" cy="2876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Investment Yield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8" name="Kepala Eksekutif"/>
          <p:cNvSpPr/>
          <p:nvPr/>
        </p:nvSpPr>
        <p:spPr>
          <a:xfrm>
            <a:off x="2054160" y="2349360"/>
            <a:ext cx="4680000" cy="2876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Membership Contribution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Kepala Eksekutif"/>
          <p:cNvSpPr/>
          <p:nvPr/>
        </p:nvSpPr>
        <p:spPr>
          <a:xfrm>
            <a:off x="2054160" y="2708280"/>
            <a:ext cx="4680000" cy="2872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Others : Fines &amp; Asset Recoverie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0" name="Komite Informasi"/>
          <p:cNvSpPr/>
          <p:nvPr/>
        </p:nvSpPr>
        <p:spPr>
          <a:xfrm>
            <a:off x="2054160" y="3500280"/>
            <a:ext cx="4680000" cy="2890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Bank Resolutions Expenses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1" name="Komite Informasi"/>
          <p:cNvSpPr/>
          <p:nvPr/>
        </p:nvSpPr>
        <p:spPr>
          <a:xfrm>
            <a:off x="2054160" y="3860640"/>
            <a:ext cx="4680000" cy="2890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Increase (Decrease) Provision for Insurance Loss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2" name="Komite Informasi"/>
          <p:cNvSpPr/>
          <p:nvPr/>
        </p:nvSpPr>
        <p:spPr>
          <a:xfrm>
            <a:off x="2054160" y="4221000"/>
            <a:ext cx="4680000" cy="2890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General &amp; Administration Expense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3" name="Text Box 20"/>
          <p:cNvSpPr/>
          <p:nvPr/>
        </p:nvSpPr>
        <p:spPr>
          <a:xfrm rot="16200000">
            <a:off x="1001520" y="2127240"/>
            <a:ext cx="1371600" cy="368280"/>
          </a:xfrm>
          <a:prstGeom prst="rect">
            <a:avLst/>
          </a:prstGeom>
          <a:solidFill>
            <a:srgbClr val="9adcf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evenue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4" name="Text Box 21"/>
          <p:cNvSpPr/>
          <p:nvPr/>
        </p:nvSpPr>
        <p:spPr>
          <a:xfrm rot="16200000">
            <a:off x="1013400" y="3640680"/>
            <a:ext cx="1366920" cy="3682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xpense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5" name="Direktorat Klaim Dan Likuidasi Bank"/>
          <p:cNvSpPr/>
          <p:nvPr/>
        </p:nvSpPr>
        <p:spPr>
          <a:xfrm>
            <a:off x="1476360" y="4653000"/>
            <a:ext cx="5256360" cy="288720"/>
          </a:xfrm>
          <a:prstGeom prst="rect">
            <a:avLst/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urplus Before Tax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6" name="Direktorat Klaim Dan Likuidasi Bank"/>
          <p:cNvSpPr/>
          <p:nvPr/>
        </p:nvSpPr>
        <p:spPr>
          <a:xfrm>
            <a:off x="1477800" y="5011560"/>
            <a:ext cx="525636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orporate Income Tax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7" name="Komite Informasi"/>
          <p:cNvSpPr/>
          <p:nvPr/>
        </p:nvSpPr>
        <p:spPr>
          <a:xfrm>
            <a:off x="6877080" y="2924280"/>
            <a:ext cx="719280" cy="28872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Minu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8" name="Komite Informasi"/>
          <p:cNvSpPr/>
          <p:nvPr/>
        </p:nvSpPr>
        <p:spPr>
          <a:xfrm>
            <a:off x="6877080" y="4797360"/>
            <a:ext cx="719280" cy="28908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Minu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6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90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31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7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9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8D3E-2DE6-428E-AB7C-7E3C2AC62258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2" name="Kepala Eksekutif"/>
          <p:cNvSpPr/>
          <p:nvPr/>
        </p:nvSpPr>
        <p:spPr>
          <a:xfrm>
            <a:off x="1692360" y="2492280"/>
            <a:ext cx="1152360" cy="289080"/>
          </a:xfrm>
          <a:prstGeom prst="rect">
            <a:avLst/>
          </a:prstGeom>
          <a:solidFill>
            <a:srgbClr val="70b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80%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3" name="Direktorat Klaim Dan Likuidasi Bank"/>
          <p:cNvSpPr/>
          <p:nvPr/>
        </p:nvSpPr>
        <p:spPr>
          <a:xfrm>
            <a:off x="2268360" y="1700280"/>
            <a:ext cx="468000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nual Surplu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4" name="Kepala Eksekutif"/>
          <p:cNvSpPr/>
          <p:nvPr/>
        </p:nvSpPr>
        <p:spPr>
          <a:xfrm>
            <a:off x="6372360" y="2492280"/>
            <a:ext cx="115236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20%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5" name="Kepala Eksekutif"/>
          <p:cNvSpPr/>
          <p:nvPr/>
        </p:nvSpPr>
        <p:spPr>
          <a:xfrm>
            <a:off x="971640" y="2852640"/>
            <a:ext cx="2592360" cy="360360"/>
          </a:xfrm>
          <a:prstGeom prst="rect">
            <a:avLst/>
          </a:prstGeom>
          <a:solidFill>
            <a:srgbClr val="70b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Insurance Reserve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6" name="Kepala Eksekutif"/>
          <p:cNvSpPr/>
          <p:nvPr/>
        </p:nvSpPr>
        <p:spPr>
          <a:xfrm>
            <a:off x="5580000" y="2852640"/>
            <a:ext cx="2664000" cy="360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Special Purpose Reserve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7" name="Line 17"/>
          <p:cNvSpPr/>
          <p:nvPr/>
        </p:nvSpPr>
        <p:spPr>
          <a:xfrm flipH="1">
            <a:off x="2843280" y="2060640"/>
            <a:ext cx="1728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4572000" y="2060640"/>
            <a:ext cx="180036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9" name="Kepala Eksekutif"/>
          <p:cNvSpPr/>
          <p:nvPr/>
        </p:nvSpPr>
        <p:spPr>
          <a:xfrm>
            <a:off x="2987640" y="5084640"/>
            <a:ext cx="3745080" cy="57636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Initial Capital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(IDR 4 trillion, </a:t>
            </a:r>
            <a:r>
              <a:rPr b="1" lang="sv-SE" sz="1400" spc="-1" strike="noStrike">
                <a:solidFill>
                  <a:srgbClr val="000000"/>
                </a:solidFill>
                <a:latin typeface="Book Antiqua"/>
              </a:rPr>
              <a:t>about US$ 410 million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0" name="Kepala Eksekutif"/>
          <p:cNvSpPr/>
          <p:nvPr/>
        </p:nvSpPr>
        <p:spPr>
          <a:xfrm>
            <a:off x="2987640" y="4437000"/>
            <a:ext cx="3745080" cy="576360"/>
          </a:xfrm>
          <a:prstGeom prst="rect">
            <a:avLst/>
          </a:prstGeom>
          <a:solidFill>
            <a:srgbClr val="70b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Insurance Reserve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(IDR 5.4 trillion, estimated as of Dec 2009)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2195640" y="3213000"/>
            <a:ext cx="720720" cy="158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2" name="Text Box 22"/>
          <p:cNvSpPr/>
          <p:nvPr/>
        </p:nvSpPr>
        <p:spPr>
          <a:xfrm rot="16200000">
            <a:off x="6090480" y="4540680"/>
            <a:ext cx="1871640" cy="368280"/>
          </a:xfrm>
          <a:prstGeom prst="rect">
            <a:avLst/>
          </a:prstGeom>
          <a:solidFill>
            <a:srgbClr val="ff66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DIC’s Fund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7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4" name="Kepala Eksekutif"/>
          <p:cNvSpPr/>
          <p:nvPr/>
        </p:nvSpPr>
        <p:spPr>
          <a:xfrm>
            <a:off x="2987640" y="3789360"/>
            <a:ext cx="3745080" cy="576360"/>
          </a:xfrm>
          <a:prstGeom prst="rect">
            <a:avLst/>
          </a:prstGeom>
          <a:solidFill>
            <a:srgbClr val="6b8ed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Provision for Insurance Los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(IDR 6.9 trillion, estimated a</a:t>
            </a:r>
            <a:r>
              <a:rPr b="1" lang="sv-SE" sz="1400" spc="-1" strike="noStrike">
                <a:solidFill>
                  <a:srgbClr val="000000"/>
                </a:solidFill>
                <a:latin typeface="Book Antiqua"/>
              </a:rPr>
              <a:t>s of Dec 2009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28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B87E-EB9C-4267-A4F1-4839552B1A0E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95280" y="2492280"/>
            <a:ext cx="82962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ook Antiqua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erima kasih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15DF-E8E8-418B-B591-C678A844CDD7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3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Outlines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4" name="Text Box 91"/>
          <p:cNvSpPr/>
          <p:nvPr/>
        </p:nvSpPr>
        <p:spPr>
          <a:xfrm>
            <a:off x="1692360" y="1628640"/>
            <a:ext cx="648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IDIC Key Features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Mandates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Sources of Fund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Insurance Premium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Investment Policy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Back-Up Funding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Fund Sufficiency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6D22-53CB-4699-B4A5-E8D99DE71BF6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7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DIC Key Features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403280" y="1700280"/>
            <a:ext cx="61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Public corporation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In between, paybox &amp; risk minimizer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Mandatory &amp; automatic membership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Ex-ante funding system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User fee funding approach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Max. coverage IDR 2 billion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Flat rate premium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Subrogation right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70F0-04FD-4EF9-A846-BFD44B8BCEAC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258920" y="1628640"/>
            <a:ext cx="676908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mandates are protecting depositor’s fund; and actively participate in promoting financial system stability, among others, by resolving failed member bank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fulfilling its mandates, IDIC develop adequate funding mechanism and build collaboration, coordination, and information sharing with other financial safety net player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utilize reimbursement to depositors of closed banks and financial assistance to improve the operation of failed bank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2" name="AutoShape 3">
            <a:hlinkClick r:id="rId1"/>
          </p:cNvPr>
          <p:cNvSpPr/>
          <p:nvPr/>
        </p:nvSpPr>
        <p:spPr>
          <a:xfrm>
            <a:off x="1187280" y="549360"/>
            <a:ext cx="691380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andates (1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6FC1-107F-44AB-932F-D28965EFAC7E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58920" y="1628640"/>
            <a:ext cx="676908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efore reimbursing depositors, IDIC  verify  and reconcile deposits record on failed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ligible depositors, insured deposits, payment schedule, paying agent bank, and location of payment then announced to public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resolving failed banks, IDIC provide  financial assistance, acquire General Shareholder Meeting, replace management, &amp; take necessary actions to improve soundness of the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financial assistance is booked as temporary capital placement to the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6" name="AutoShape 3">
            <a:hlinkClick r:id="rId1"/>
          </p:cNvPr>
          <p:cNvSpPr/>
          <p:nvPr/>
        </p:nvSpPr>
        <p:spPr>
          <a:xfrm>
            <a:off x="1187280" y="549360"/>
            <a:ext cx="691380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andates (2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F830-14FB-4566-8BE2-256E6C7D065A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9" name="Direktorat Klaim Dan Likuidasi Bank"/>
          <p:cNvSpPr/>
          <p:nvPr/>
        </p:nvSpPr>
        <p:spPr>
          <a:xfrm>
            <a:off x="3708360" y="4005360"/>
            <a:ext cx="4103640" cy="64764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Investment Yield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0" name="Komite Informasi"/>
          <p:cNvSpPr/>
          <p:nvPr/>
        </p:nvSpPr>
        <p:spPr>
          <a:xfrm>
            <a:off x="3708360" y="2421000"/>
            <a:ext cx="4103640" cy="6490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One Time Membership Contribution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(0.5% of Paid up Capital/Equities)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Kepala Eksekutif"/>
          <p:cNvSpPr/>
          <p:nvPr/>
        </p:nvSpPr>
        <p:spPr>
          <a:xfrm>
            <a:off x="3708360" y="1655640"/>
            <a:ext cx="4103640" cy="6210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Initial Capital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(IDR 4 trillion, </a:t>
            </a:r>
            <a:r>
              <a:rPr b="1" lang="sv-SE" sz="1600" spc="-1" strike="noStrike">
                <a:solidFill>
                  <a:srgbClr val="000000"/>
                </a:solidFill>
                <a:latin typeface="Book Antiqua"/>
              </a:rPr>
              <a:t>about US$ 410 million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AutoShape 34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ources of Fund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3" name="Komite Informasi"/>
          <p:cNvSpPr/>
          <p:nvPr/>
        </p:nvSpPr>
        <p:spPr>
          <a:xfrm>
            <a:off x="3708360" y="3213000"/>
            <a:ext cx="4103640" cy="64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nnual Insurance Premium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(0.2% of Average Insurable Deposits)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4" name="Kepala Eksekutif"/>
          <p:cNvSpPr/>
          <p:nvPr/>
        </p:nvSpPr>
        <p:spPr>
          <a:xfrm>
            <a:off x="1187280" y="1655640"/>
            <a:ext cx="2305080" cy="6210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Government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5" name="Komite Informasi"/>
          <p:cNvSpPr/>
          <p:nvPr/>
        </p:nvSpPr>
        <p:spPr>
          <a:xfrm>
            <a:off x="1187280" y="2421000"/>
            <a:ext cx="2305080" cy="143964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Member Bank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6" name="Direktorat Klaim Dan Likuidasi Bank"/>
          <p:cNvSpPr/>
          <p:nvPr/>
        </p:nvSpPr>
        <p:spPr>
          <a:xfrm>
            <a:off x="1187280" y="4005360"/>
            <a:ext cx="2305080" cy="647640"/>
          </a:xfrm>
          <a:prstGeom prst="rect">
            <a:avLst/>
          </a:prstGeom>
          <a:solidFill>
            <a:srgbClr val="99cc00">
              <a:alpha val="9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Government Bond/Sukuk 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&amp; Central Bank Securitie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7" name="Direktorat Klaim Dan Likuidasi Bank"/>
          <p:cNvSpPr/>
          <p:nvPr/>
        </p:nvSpPr>
        <p:spPr>
          <a:xfrm>
            <a:off x="1187280" y="5300640"/>
            <a:ext cx="230508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osed Bank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8" name="Direktorat Klaim Dan Likuidasi Bank"/>
          <p:cNvSpPr/>
          <p:nvPr/>
        </p:nvSpPr>
        <p:spPr>
          <a:xfrm>
            <a:off x="3708360" y="5300640"/>
            <a:ext cx="410364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ecovery from Liquidated Asset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9" name="Komite Informasi"/>
          <p:cNvSpPr/>
          <p:nvPr/>
        </p:nvSpPr>
        <p:spPr>
          <a:xfrm>
            <a:off x="1187280" y="4797360"/>
            <a:ext cx="2305080" cy="36036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Member Bank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0" name="Komite Informasi"/>
          <p:cNvSpPr/>
          <p:nvPr/>
        </p:nvSpPr>
        <p:spPr>
          <a:xfrm>
            <a:off x="3708360" y="4797360"/>
            <a:ext cx="4103640" cy="36036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nes on Late Payment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7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9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09AA-99B1-4912-A7E7-AD63DA37F373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nsurance Premium (1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332000" y="1557360"/>
            <a:ext cx="640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Member banks pay a flat rate 0.1% semi-anually premium (0.2% p.a.) based on monthly average of insurable deposit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Member banks do self-assessment; calculate, pay, and report their own premium to IDIC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For premium payment, commercial banks  debit their accounts at the Central Bank; whilst rural banks pay to IDIC account in appointed bank with widespread branch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Late premium payment shall be fined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0.5% of unpaid premium amount per day overdue, at maximum 150% of unpaid premium </a:t>
            </a: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F948-5FA0-451B-AE9A-113826A5BB9F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7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nsurance Premium (2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332000" y="1557360"/>
            <a:ext cx="64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DIC will inform non compliance member banks to the bank supervisor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n addition, IDIC could prosecute  directors and commisioners of non compliance member banks for breaching the Law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During global financial crisis, level of coverage was increased from IDR 100 million to IDR 2 billion, but the premium rate was unchanged and there is no special premium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DIC is considering to apply differential  premium system in the near future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9689-6320-4375-B8CD-B39F40CA8508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1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Investment Policy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332000" y="1557360"/>
            <a:ext cx="6408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The emphasis of IDIC investment policy is on the safety and liquidity of the fund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DIC can only invest on securities issued by Government or Central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The investment tools includes Government Bond &amp; Islamic Bond (Sukuk), and Central Bank Certificate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For day to day operation, IDIC is allowed to place minor amount on current account in commercial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n regard to protect Islamic bank deposits, IDIC invest on Sukuk proportionally with the share of the particular deposit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1:31:39Z</dcterms:created>
  <dc:creator>Hari Prasetya</dc:creator>
  <dc:description/>
  <dc:language>en-US</dc:language>
  <cp:lastModifiedBy>Pratik Mitra</cp:lastModifiedBy>
  <dcterms:modified xsi:type="dcterms:W3CDTF">2010-01-15T07:59:57Z</dcterms:modified>
  <cp:revision>408</cp:revision>
  <dc:subject/>
  <dc:title>Slide 1</dc:title>
</cp:coreProperties>
</file>