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C6A3-202F-4D71-8832-D437A8DA9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2154-680D-4A22-98A4-72CB170BD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32AA-B531-4B91-AB4E-93A037318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934B-0DEE-4E4E-94F8-FBF314F64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9A31-E8A5-4111-BE21-40F1CE121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736D-2BB9-471C-8F25-87BE0751D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611E-7DA3-4FFC-A143-A3B7C5AF2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5C3E-886A-4EB2-9A0A-024538B56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F44D-EA1B-445C-82BF-9C1DAC7E8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AF1A-3876-42A7-9289-01D214C8E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A287-007A-4A34-BD4D-5134BF48A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5849-0A72-45FB-86C3-61A9B730D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4FCD-5F25-48D0-AA35-0F6985FC3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4005-3647-4C73-ACB6-1910AB4AA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7239-A2D9-4AAD-BB7C-876FFEC5A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B906-D390-45B7-9EE9-2186300CF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5B6A-713B-4CB0-B693-7080BEEC2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C427-20FF-4DE2-998D-9C9F968C1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CBBC-D318-404E-9276-7A2E3F2AD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E2CF-B929-4673-8E36-C8541F542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6A6C-08C9-47E2-BE10-DC80F3149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B2A-CC6A-433D-A0B0-33F2706E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78A-8A17-4CC1-9EE4-0CDD6572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B8F-9A4E-4553-BF7A-169C2DC5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4E2-4450-41CF-8ED2-BEE649EA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393-3C3B-4D62-A69A-DEF02788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740-82F6-431A-8546-CAF52745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C24-00E4-4FA5-B27A-C200D5F0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249-7C11-47AB-B291-A79C8AF3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996-9004-47DC-BE72-0BBBA122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009-2F36-46CF-84F3-25E3094E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8B8-31DC-402F-A0B2-E170A198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CA2-33DA-4B74-A146-8D264420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DCD3-6608-44D6-967D-595B0A00F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-152280" y="2286000"/>
            <a:ext cx="9448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NAGEMENT OF DEPOSIT INSURANCE FUND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hilippine Experie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057400" y="457200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DRA A. DIAZ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Vice Presi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osit Insurance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0" y="579132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292929"/>
                </a:solidFill>
                <a:latin typeface="Arial"/>
              </a:rPr>
              <a:t>8</a:t>
            </a:r>
            <a:r>
              <a:rPr b="0" i="1" lang="en-US" sz="23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0" i="1" lang="en-US" sz="2300" spc="-1" strike="noStrike">
                <a:solidFill>
                  <a:srgbClr val="292929"/>
                </a:solidFill>
                <a:latin typeface="Arial"/>
              </a:rPr>
              <a:t> Asia Regional Committee Meeting &amp; International Confere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292929"/>
                </a:solidFill>
                <a:latin typeface="Arial"/>
              </a:rPr>
              <a:t>January 18, 20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C:\Users\pmitra\AppData\Local\Microsoft\Windows\Temporary Internet Files\Content.Outlook\FPXYD5H6\patch.jpg"/>
          <p:cNvPicPr/>
          <p:nvPr/>
        </p:nvPicPr>
        <p:blipFill>
          <a:blip r:embed="rId2"/>
          <a:stretch/>
        </p:blipFill>
        <p:spPr>
          <a:xfrm>
            <a:off x="1000080" y="919080"/>
            <a:ext cx="75661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838080" y="1913040"/>
          <a:ext cx="6629400" cy="3573360"/>
        </p:xfrm>
        <a:graphic>
          <a:graphicData uri="http://schemas.openxmlformats.org/drawingml/2006/table">
            <a:tbl>
              <a:tblPr/>
              <a:tblGrid>
                <a:gridCol w="4883400"/>
                <a:gridCol w="174600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rance Reserves Target (I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87.6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sit Insurance Fund (DIF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6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/I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/ Insured Depos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23"/>
          <p:cNvSpPr/>
          <p:nvPr/>
        </p:nvSpPr>
        <p:spPr>
          <a:xfrm>
            <a:off x="762120" y="80640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V. DEPOSIT INSURANCE FUND SUFFICI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762480" y="15080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838080" y="1523880"/>
            <a:ext cx="792504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Section 17 of the PDIC Char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(a) Money of the Corporation not otherwise employed shall b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2925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invested in obligations of the Republic of the Philippines 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2925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in obligations guaranteed as to principal and interest by the Republic of the Philippin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(b) The banking or checking accounts of the Corporation shall b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2925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kept with the </a:t>
            </a:r>
            <a:r>
              <a:rPr b="0" i="1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Bangko Sentral ng Pilipinas (Central Bank)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2925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any other bank designated as depository or fiscal agent of the Philippine government</a:t>
            </a:r>
            <a:r>
              <a:rPr b="0" lang="en-US" sz="2000" spc="-1" strike="noStrike">
                <a:solidFill>
                  <a:srgbClr val="292526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62120" y="762120"/>
            <a:ext cx="723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. INVESTMENT of FU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26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27"/>
          <p:cNvSpPr/>
          <p:nvPr/>
        </p:nvSpPr>
        <p:spPr>
          <a:xfrm>
            <a:off x="152280" y="5335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MENTS &amp; SINKING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Billion Pes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028"/>
          <p:cNvGraphicFramePr/>
          <p:nvPr/>
        </p:nvGraphicFramePr>
        <p:xfrm>
          <a:off x="152280" y="914400"/>
          <a:ext cx="891540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0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4400"/>
                    <a:ext cx="891540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029"/>
          <p:cNvGraphicFramePr/>
          <p:nvPr/>
        </p:nvGraphicFramePr>
        <p:xfrm>
          <a:off x="76320" y="4724280"/>
          <a:ext cx="8915400" cy="2133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2" name="Object 10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724280"/>
                    <a:ext cx="8915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9" descr=""/>
          <p:cNvPicPr/>
          <p:nvPr/>
        </p:nvPicPr>
        <p:blipFill>
          <a:blip r:embed="rId6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62120" y="609480"/>
            <a:ext cx="617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. INVESTMENT OF FU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6"/>
          <p:cNvGraphicFramePr/>
          <p:nvPr/>
        </p:nvGraphicFramePr>
        <p:xfrm>
          <a:off x="685800" y="1625760"/>
          <a:ext cx="8001000" cy="523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25760"/>
                    <a:ext cx="80010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7"/>
          <p:cNvSpPr/>
          <p:nvPr/>
        </p:nvSpPr>
        <p:spPr>
          <a:xfrm>
            <a:off x="2209680" y="129528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FOLIO M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4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6"/>
          <p:cNvGraphicFramePr/>
          <p:nvPr/>
        </p:nvGraphicFramePr>
        <p:xfrm>
          <a:off x="762120" y="2362320"/>
          <a:ext cx="807696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80769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7"/>
          <p:cNvSpPr/>
          <p:nvPr/>
        </p:nvSpPr>
        <p:spPr>
          <a:xfrm>
            <a:off x="685800" y="107964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DIC Investment Portfolio Income v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I of Selected Local Bond Fu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6 - 200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09480" y="609480"/>
            <a:ext cx="617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. INVESTMENT OF FU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4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762120" y="990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62120" y="80640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. ALTERNATIVE FUND SOURC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38080" y="1600200"/>
            <a:ext cx="7391520" cy="42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ity to 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settlement of insured deposit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111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ssistance to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Central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111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ing interest rate shall not exce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sury bill rat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ny depository or fiscal agent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term loans, credit lines &amp; other cred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mo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990720" y="12193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080" y="1600200"/>
            <a:ext cx="7391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ity to B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utilized for long-term rehabil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ance to banks ( 1997-20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yment is ensured through the set-up of sinking fun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838080" y="88272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. ALTERNATIVE FUND SOURC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762120" y="80640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. ALTERNATIVE FUND 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62120" y="1527120"/>
            <a:ext cx="822960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suance of Bonds, Debentures and Other Oblig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settlement of insured deposit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ssistance to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r fore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-exem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pproves the issuance/ re-issuance, interest r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/ maturity, servicing, placement and red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be provided reserves for the redemption 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rement of the oblig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762120" y="83808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. TAX ISSUES with the BUREAU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AL REVENUE (BI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371600" y="2057400"/>
            <a:ext cx="7467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Added Tax (VAT) on assessment collections from member banks (1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Tax on assessment collections from member banks (3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1447920" y="2514600"/>
            <a:ext cx="7010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’s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IC is engaged in business, rendering non-life insurance services to its member banks for a fee, hence, liable to pay V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762120" y="114300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. TAX ISSUES with the BUREAU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AL REVENUE (BI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685800" y="91440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 OUTLIN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85800" y="1676520"/>
            <a:ext cx="792468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Insurance Risk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the Deposit Insurance Reserves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 of Insurance Reserves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Insurance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Fund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Legislative Amendments to Build-up the 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26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27"/>
          <p:cNvSpPr/>
          <p:nvPr/>
        </p:nvSpPr>
        <p:spPr>
          <a:xfrm>
            <a:off x="838080" y="175176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DIC maintains tha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28"/>
          <p:cNvSpPr/>
          <p:nvPr/>
        </p:nvSpPr>
        <p:spPr>
          <a:xfrm>
            <a:off x="83808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is not engaged in the sale of good or service; consistent with public policy, it is mandated to collect premiums from banks for purposes of DEPOSITOR PROTEC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is not engaged in the sale of insurance, PDIC is not engaged in trade or busines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is a regulatory agency performing a sovereign func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does not have the authority to pass on VAT to banks because the rate of assessment is fixed by law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228600" y="761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. TAX ISSUES with the BUREAU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AL REVENUE (BI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050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762120" y="274320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5 yea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ax obligations of the PDIC    chargeable to Tax Expenditure Fund (T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053"/>
          <p:cNvSpPr/>
          <p:nvPr/>
        </p:nvSpPr>
        <p:spPr>
          <a:xfrm>
            <a:off x="719280" y="2006640"/>
            <a:ext cx="78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TION FROM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054"/>
          <p:cNvSpPr/>
          <p:nvPr/>
        </p:nvSpPr>
        <p:spPr>
          <a:xfrm>
            <a:off x="914400" y="36576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ear and there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PDIC exempt fro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 ta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 withholding 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T  on assessment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228600" y="7621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I. RECENT LEGISLATIVE AMENDMENTS t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-UP the DI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1523880" y="19051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ssuance of Bonds, Debentures and Other Oblig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43000" y="2971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guaranteed by the Nation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143000" y="3581280"/>
            <a:ext cx="88390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 exceed two times the DIF as of date of the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t issu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762120" y="8380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I. OTHER LEGISLATIVE AMENDM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DING to the BUILD-UP of the DI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0666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 payment  of  deposit  insurance on 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371600" y="3048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Investment 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90720" y="19051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ity  to   determine   insured   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71600" y="3733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Unfunded, fictitious and fraudulent deposit accounts o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762120" y="8380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I. OTHER LEGISLATIVE AMENDM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DING to the BUILD-UP of the DI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295280" y="2362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ayment of deposit insurance on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143000" y="1752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ity to  determine  insured  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371600" y="52578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  Deposits from proceeds  from  an unlawfu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371600" y="303516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8560" indent="-514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Deposit   accounts   constituting   and/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nating from unsafe and unsound banking practices, after issuance of a cease and desist order by PDIC against such deposit accounts o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62120" y="8380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I. OTHER LEGISLATIVE AMENDM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DING to the BUILD-UP of the DI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514600" y="4800600"/>
            <a:ext cx="3809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diaz@pdic.gov.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2-84148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209680" y="2286000"/>
            <a:ext cx="426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26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28"/>
          <p:cNvSpPr/>
          <p:nvPr/>
        </p:nvSpPr>
        <p:spPr>
          <a:xfrm>
            <a:off x="457200" y="1600200"/>
            <a:ext cx="63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of September 30,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29"/>
          <p:cNvSpPr/>
          <p:nvPr/>
        </p:nvSpPr>
        <p:spPr>
          <a:xfrm>
            <a:off x="533520" y="7621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0"/>
          <p:cNvSpPr/>
          <p:nvPr/>
        </p:nvSpPr>
        <p:spPr>
          <a:xfrm>
            <a:off x="457200" y="958680"/>
            <a:ext cx="716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. DEPOSIT INSURANCE RISK EXPOSURE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035"/>
          <p:cNvGraphicFramePr/>
          <p:nvPr/>
        </p:nvGraphicFramePr>
        <p:xfrm>
          <a:off x="0" y="1828800"/>
          <a:ext cx="9448920" cy="7543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10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44892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129528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adequacy is essential to ensure that the Corporation can absorb losses arising from bank failures under non-systemic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urance reserves shall be maintained at a reasonable level that ensures capital adequ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sonable level of insurance reserves shall be determined thru a Target Methodology.  It shall be based on the estimated risks posed by member banks to the DI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685800"/>
            <a:ext cx="792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. DEPOSIT INSURANCE RESERVES TAR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639720" y="1447920"/>
            <a:ext cx="786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omposition of Insurance Reserves Targe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5800" y="2209680"/>
            <a:ext cx="786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pecific Reserv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e level of insurance reserves to cove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ticip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potential losses from banks that have high probability of failu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85800" y="3581280"/>
            <a:ext cx="7894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l Reserv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e minimum level of insurance reserves to cove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nanticip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losses from deposit insurance payouts and grant of financial assist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 as a percentage of estimated insured deposits (EID) of banks not included in the estimation of specific reserv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09480" y="83808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. THE METHODOLOG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7893000" y="85392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457560" y="230976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2666880"/>
          <a:ext cx="8343720" cy="2378160"/>
        </p:xfrm>
        <a:graphic>
          <a:graphicData uri="http://schemas.openxmlformats.org/drawingml/2006/table">
            <a:tbl>
              <a:tblPr/>
              <a:tblGrid>
                <a:gridCol w="1579320"/>
                <a:gridCol w="1202040"/>
                <a:gridCol w="1066680"/>
                <a:gridCol w="1587600"/>
                <a:gridCol w="1454040"/>
                <a:gridCol w="14540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 Risk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Reser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s-at- Risk (BAR), Categories 1&amp;2, and Unr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9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65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27"/>
          <p:cNvSpPr/>
          <p:nvPr/>
        </p:nvSpPr>
        <p:spPr>
          <a:xfrm>
            <a:off x="459360" y="1600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imation of SPECIFIC Reser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457200" y="762120"/>
            <a:ext cx="58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 ESTIMATION of 2009 TAR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685800" y="2666880"/>
          <a:ext cx="7620120" cy="171792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  <a:gridCol w="1905120"/>
                <a:gridCol w="19051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 Risk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 for General Reser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Reser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es 3, 4 &amp; 5 Ban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87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21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2" name="Text Box 47"/>
          <p:cNvSpPr/>
          <p:nvPr/>
        </p:nvSpPr>
        <p:spPr>
          <a:xfrm>
            <a:off x="613440" y="160020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imation of GENERAL Rese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609840" y="230976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5"/>
          <p:cNvSpPr/>
          <p:nvPr/>
        </p:nvSpPr>
        <p:spPr>
          <a:xfrm>
            <a:off x="609480" y="806400"/>
            <a:ext cx="586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 ESTIMATION of 2009 TAR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838080" y="1884240"/>
          <a:ext cx="6629400" cy="3756240"/>
        </p:xfrm>
        <a:graphic>
          <a:graphicData uri="http://schemas.openxmlformats.org/drawingml/2006/table">
            <a:tbl>
              <a:tblPr/>
              <a:tblGrid>
                <a:gridCol w="4883400"/>
                <a:gridCol w="1746000"/>
              </a:tblGrid>
              <a:tr h="103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Reser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65.8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Reser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2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rance Reserves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87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 Ratio to Insured Depos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8" name="Text Box 24"/>
          <p:cNvSpPr/>
          <p:nvPr/>
        </p:nvSpPr>
        <p:spPr>
          <a:xfrm>
            <a:off x="762120" y="83808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 ESTIMATION of 2009 RESERVES TAR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762480" y="15238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26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27"/>
          <p:cNvGraphicFramePr/>
          <p:nvPr/>
        </p:nvGraphicFramePr>
        <p:xfrm>
          <a:off x="152280" y="914400"/>
          <a:ext cx="8923320" cy="44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4400"/>
                    <a:ext cx="892332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1028"/>
          <p:cNvSpPr/>
          <p:nvPr/>
        </p:nvSpPr>
        <p:spPr>
          <a:xfrm>
            <a:off x="152280" y="5335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OSIT INSURANCE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 to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Billion Pes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1029"/>
          <p:cNvGraphicFramePr/>
          <p:nvPr/>
        </p:nvGraphicFramePr>
        <p:xfrm>
          <a:off x="133200" y="5334120"/>
          <a:ext cx="8934480" cy="1447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6" name="Object 10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" y="5334120"/>
                    <a:ext cx="89344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9" descr=""/>
          <p:cNvPicPr/>
          <p:nvPr/>
        </p:nvPicPr>
        <p:blipFill>
          <a:blip r:embed="rId6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8:57:05Z</dcterms:created>
  <dc:creator>mgdemesa</dc:creator>
  <dc:description/>
  <dc:language>en-US</dc:language>
  <cp:lastModifiedBy>Pratik Mitra</cp:lastModifiedBy>
  <dcterms:modified xsi:type="dcterms:W3CDTF">2010-01-15T08:02:16Z</dcterms:modified>
  <cp:revision>182</cp:revision>
  <dc:subject/>
  <dc:title>PowerPoint Presentation</dc:title>
</cp:coreProperties>
</file>