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20.xml><?xml version="1.0" encoding="utf-8"?>
<p:cmLst xmlns:p="http://schemas.openxmlformats.org/presentationml/2006/main">
  <p:cm authorId="0" dt="2009-12-20T16:46:32.734000000" idx="1">
    <p:pos x="10" y="10"/>
    <p:text>поменяй расцветку (более контрастную), а то рядом стоящие группы сливаются между собой. + добавь данные по количеству банков в каждой группе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3893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233893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4058-324B-46AD-9822-922D4C574B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C245-2C3B-4CA9-BC50-D520632673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лку переместить, комменты сокращенно + обозначить дату введения ДС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3B7-AC5D-4E0B-90A6-B923C5F8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BB2-C01B-4BC2-92F9-9B57B7C0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757-7593-4E99-8046-CE20D0A5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F7A-AE37-48B8-98CE-19ED3B0D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C9B05-B088-4FB9-926F-DBDC7D9D26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6F591-3DCC-495F-AAF8-B3C8BD9460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6C550-ADE1-4398-B8D5-96BC94AEF2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4D26D-4820-4395-96F5-CD3BB98EDB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8A61A-BE5C-42F7-842E-0E7BEAE8AB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A2081-BA93-42EB-8260-31698A14FB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6D937-3101-45FA-BA1D-0D4343EE47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7D8-6D7E-436C-BF1C-2DD47E11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0857D-B81D-4A25-B500-3F8C387586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6182D-FE8B-4A48-8818-59EBF26242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D2D64-5E9C-46E2-9E44-209C5C99AE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53ADC-56E9-4BFE-AE28-448FCAF8BA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6FC65-2BEA-4E71-83D0-6A77781DE0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F30080-5B06-4C54-BF44-A7F62292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72C435-35F8-48CB-BFE0-DF0FAD2F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77727A-BB8F-49E0-81D1-5B4C10B8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C77AD8-74C2-44E5-96ED-28242F15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C3BD71-A66B-4D7E-9486-95577516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110-C52A-4931-9553-C9802002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624DC8-B496-4158-8EDD-46FBBAB8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3431DD-903B-4437-988D-4637F531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3FF3F6-582E-47F8-A7C3-795204D1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3F2E06-79C9-426F-9CF3-BDF08BCA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1547AB-5077-437A-BE20-198C744D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3863F5-536C-4572-BBAE-6DC0BE5F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906558-7CF2-4D7B-B923-A7500105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914-F1C6-4D05-BAAD-F993EF69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46D-5922-4D10-8239-E0CAEA66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B69-0E5A-44DC-B7D8-39F1E462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F0A-94E0-4356-BFC0-CFCD2903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E60-CBA3-44F0-BECC-EB4F9076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82E-3906-43DA-9AB6-0D43E274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1.pn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A862-5BBA-4D45-B91A-2DFC171E5A3D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ADI-PPT-1"/>
          <p:cNvPicPr/>
          <p:nvPr/>
        </p:nvPicPr>
        <p:blipFill>
          <a:blip r:embed="rId2"/>
          <a:srcRect l="0" t="0" r="91672" b="0"/>
          <a:stretch/>
        </p:blipFill>
        <p:spPr>
          <a:xfrm>
            <a:off x="0" y="0"/>
            <a:ext cx="76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3893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3389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07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2338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  <a:p>
            <a:pPr lvl="1" marL="571680" indent="-227160">
              <a:spcBef>
                <a:spcPts val="601"/>
              </a:spcBef>
              <a:buClr>
                <a:srgbClr val="233893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  <a:p>
            <a:pPr lvl="2" marL="914400" indent="-228600">
              <a:spcBef>
                <a:spcPts val="601"/>
              </a:spcBef>
              <a:buClr>
                <a:srgbClr val="233893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  <a:p>
            <a:pPr lvl="3" marL="1255680" indent="-226800">
              <a:spcBef>
                <a:spcPts val="601"/>
              </a:spcBef>
              <a:buClr>
                <a:srgbClr val="233893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  <a:p>
            <a:pPr lvl="4" marL="1598760" indent="-223920">
              <a:spcBef>
                <a:spcPts val="601"/>
              </a:spcBef>
              <a:buClr>
                <a:srgbClr val="2338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  <a:p>
            <a:pPr lvl="5" marL="1598760" indent="-2239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  <a:p>
            <a:pPr lvl="6" marL="1598760" indent="-2239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7ac3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3F6F-3008-470A-85AE-B30F5C2266A1}" type="slidenum">
              <a:rPr b="0" lang="ru-RU" sz="1200" spc="-1" strike="noStrike">
                <a:solidFill>
                  <a:srgbClr val="007ac3"/>
                </a:solidFill>
                <a:latin typeface="Verdan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IADI-PPT-1"/>
          <p:cNvPicPr/>
          <p:nvPr/>
        </p:nvPicPr>
        <p:blipFill>
          <a:blip r:embed="rId3"/>
          <a:srcRect l="0" t="0" r="92503" b="0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8035920" y="5105520"/>
            <a:ext cx="110808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IADI-PPT-1"/>
          <p:cNvPicPr/>
          <p:nvPr/>
        </p:nvPicPr>
        <p:blipFill>
          <a:blip r:embed="rId5"/>
          <a:srcRect l="0" t="0" r="92503" b="0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8035920" y="5105520"/>
            <a:ext cx="1108080" cy="175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2" descr="corporat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7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5B72-A2D4-4AC0-BE5E-3FDED23725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4" descr="corporat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8"/>
          </p:nvPr>
        </p:nvSpPr>
        <p:spPr>
          <a:xfrm>
            <a:off x="68576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6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6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6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6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6920" y="2143080"/>
            <a:ext cx="745812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33893"/>
                </a:solidFill>
                <a:latin typeface="Book Antiqua"/>
              </a:rPr>
              <a:t>FUNDING</a:t>
            </a:r>
            <a:br>
              <a:rPr sz="4800"/>
            </a:br>
            <a:r>
              <a:rPr b="1" i="1" lang="en-US" sz="4000" spc="-1" strike="noStrike">
                <a:solidFill>
                  <a:srgbClr val="233893"/>
                </a:solidFill>
                <a:latin typeface="Verdana"/>
              </a:rPr>
              <a:t>sources, mechanisms and critical issues</a:t>
            </a:r>
            <a:r>
              <a:rPr b="1" lang="en-US" sz="4000" spc="-1" strike="noStrike">
                <a:solidFill>
                  <a:srgbClr val="233893"/>
                </a:solidFill>
                <a:latin typeface="Verdana"/>
              </a:rPr>
              <a:t>. </a:t>
            </a:r>
            <a:r>
              <a:rPr b="1" i="1" lang="en-US" sz="4000" spc="-1" strike="noStrike">
                <a:solidFill>
                  <a:srgbClr val="233893"/>
                </a:solidFill>
                <a:latin typeface="Verdana"/>
              </a:rPr>
              <a:t>Experience of the KDIF</a:t>
            </a:r>
            <a:endParaRPr b="1" lang="en-US" sz="4000" spc="-1" strike="noStrike">
              <a:solidFill>
                <a:srgbClr val="233893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858920" y="4724280"/>
            <a:ext cx="3241800" cy="9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93"/>
                </a:solidFill>
                <a:latin typeface="Verdana"/>
              </a:rPr>
              <a:t>Presented by</a:t>
            </a:r>
            <a:endParaRPr b="0" lang="en-US" sz="2000" spc="-1" strike="noStrike">
              <a:solidFill>
                <a:srgbClr val="23389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93"/>
                </a:solidFill>
                <a:latin typeface="Verdana"/>
              </a:rPr>
              <a:t>Mrs. Bakhyt Mazhenova</a:t>
            </a:r>
            <a:endParaRPr b="0" lang="en-US" sz="2000" spc="-1" strike="noStrike">
              <a:solidFill>
                <a:srgbClr val="23389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93"/>
                </a:solidFill>
                <a:latin typeface="Verdana"/>
              </a:rPr>
              <a:t>Chair, KDIF</a:t>
            </a:r>
            <a:endParaRPr b="0" lang="en-US" sz="2000" spc="-1" strike="noStrike">
              <a:solidFill>
                <a:srgbClr val="233893"/>
              </a:solidFill>
              <a:latin typeface="Verdana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C:\Users\pmitra\AppData\Local\Microsoft\Windows\Temporary Internet Files\Content.Outlook\FPXYD5H6\patch.jpg"/>
          <p:cNvPicPr/>
          <p:nvPr/>
        </p:nvPicPr>
        <p:blipFill>
          <a:blip r:embed="rId2"/>
          <a:stretch/>
        </p:blipFill>
        <p:spPr>
          <a:xfrm>
            <a:off x="1000080" y="790560"/>
            <a:ext cx="75661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lat rate system advantage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08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ic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r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element in initial reserve accum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 infra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ivation of the market to self-reg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000" y="642600"/>
            <a:ext cx="811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eorgia"/>
              </a:rPr>
              <a:t>Flat rate system shortcomings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85560" y="2060280"/>
            <a:ext cx="7102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bility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 member - bank fail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 a DI’ fund suffici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Differential rate premium system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56800" y="1571400"/>
            <a:ext cx="78296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 tasks of the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th of the DI’ reserve at maintained 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equate assessment of the member-banks’ financial soundness and risk profile on the base of the existed reports and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ion of the member-bank fail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ion of the reserve sufficiency and effective funds’ planning and inves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ing of timely measures within insuranc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7756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The KDIF has developed national differential premium system  - 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BATA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, which is in effect since November of 2006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Banks’ regular premium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64" name="Object 13"/>
          <p:cNvGraphicFramePr/>
          <p:nvPr/>
        </p:nvGraphicFramePr>
        <p:xfrm>
          <a:off x="900000" y="1600200"/>
          <a:ext cx="77868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00200"/>
                    <a:ext cx="77868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6" name="Picture 2" descr="C:\Documents and Settings\User\Мои документы\Мои рисунки\KDIF\IADI.JPG"/>
          <p:cNvPicPr/>
          <p:nvPr/>
        </p:nvPicPr>
        <p:blipFill>
          <a:blip r:embed="rId3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4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68" name="TextBox 31"/>
          <p:cNvSpPr/>
          <p:nvPr/>
        </p:nvSpPr>
        <p:spPr>
          <a:xfrm>
            <a:off x="1619280" y="1557360"/>
            <a:ext cx="188100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 of the DPS on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1"/>
          <p:cNvSpPr/>
          <p:nvPr/>
        </p:nvSpPr>
        <p:spPr>
          <a:xfrm rot="16200000">
            <a:off x="519120" y="33051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ln.KZ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1"/>
          <p:cNvSpPr/>
          <p:nvPr/>
        </p:nvSpPr>
        <p:spPr>
          <a:xfrm>
            <a:off x="3851280" y="1628640"/>
            <a:ext cx="214308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of the DPS’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1"/>
          <p:cNvSpPr/>
          <p:nvPr/>
        </p:nvSpPr>
        <p:spPr>
          <a:xfrm>
            <a:off x="6372360" y="1484280"/>
            <a:ext cx="184284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orsen conditions of two systemic b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0"/>
          <p:cNvSpPr/>
          <p:nvPr/>
        </p:nvSpPr>
        <p:spPr>
          <a:xfrm>
            <a:off x="2627280" y="2133720"/>
            <a:ext cx="432000" cy="2590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1"/>
          <p:cNvSpPr/>
          <p:nvPr/>
        </p:nvSpPr>
        <p:spPr>
          <a:xfrm>
            <a:off x="5003640" y="1989000"/>
            <a:ext cx="0" cy="576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>
            <a:off x="7093080" y="1989000"/>
            <a:ext cx="574560" cy="792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9" descr=""/>
          <p:cNvPicPr/>
          <p:nvPr/>
        </p:nvPicPr>
        <p:blipFill>
          <a:blip r:embed="rId5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Effects of the DPS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BATA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571400"/>
            <a:ext cx="75438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er-banks have been encouraged to follow discreet deposit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DIF closely monitors identified risky banks (group “E”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s track of their financial positions and any events with negative pot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pects correctness and comprehensiveness of depositors’ records in the banks’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s consultations with Regul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10920" y="1628280"/>
            <a:ext cx="8064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Is it always possible in the practice to cover reserve’ deficit by member-banks’ extra premium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71640" y="428760"/>
            <a:ext cx="734544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ase study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9297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t-Tranzit Bank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SC – big regional bank failed in 2007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number of guaranteed depositors exceeded 200,000 person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wo cases out of three the KDIF’ reserve deficit was financed by its Sole Shareholder – the National Bank of Kazakhst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642960" y="5286240"/>
            <a:ext cx="8286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It has established a prece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4643280" y="4076640"/>
            <a:ext cx="503280" cy="936720"/>
          </a:xfrm>
          <a:prstGeom prst="downArrow">
            <a:avLst>
              <a:gd name="adj1" fmla="val 50000"/>
              <a:gd name="adj2" fmla="val 4653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Lesson learned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85520" y="1989000"/>
            <a:ext cx="79009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In practice it is complicated to implement theoretically attractive scheme on covering a reserve’ deficit by member-banks as market would always try to impose whole responsibility for bank’ failure on Regulator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eorgia"/>
              </a:rPr>
              <a:t>The Kazakhstani DIS in crisis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55280" y="1571760"/>
            <a:ext cx="7931160" cy="44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overage amount was increased more than 7 times – from 700 thousand KZT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.7 ths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up to 5 million KZT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4 ths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  the KDIF’ potential financial burden increased by 6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financial positions and soundness of the banks, especially big ones, significantly deteriorated (since middle of 2009 two systemic banks are in the worse group – “E”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2627280" y="278136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56800" y="1000080"/>
            <a:ext cx="7929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deposit insurance system should have available all funding mechanisms necessary to ensure the prompt reimbursement of depositors’ claims including a means of obtaining supplementary back-up funding for liquidity purposes when required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Principle “Funding”, Core principles for effective deposit insurance system, BCBS and IAD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Classification groups of the DP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10" name="Object 153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1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2" name="Picture 2" descr="C:\Documents and Settings\User\Мои документы\Мои рисунки\KDIF\IADI.JPG"/>
          <p:cNvPicPr/>
          <p:nvPr/>
        </p:nvPicPr>
        <p:blipFill>
          <a:blip r:embed="rId3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"/>
          <p:cNvPicPr/>
          <p:nvPr/>
        </p:nvPicPr>
        <p:blipFill>
          <a:blip r:embed="rId4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"/>
          <p:cNvPicPr/>
          <p:nvPr/>
        </p:nvPicPr>
        <p:blipFill>
          <a:blip r:embed="rId5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3800" spc="-1" strike="noStrike">
                <a:solidFill>
                  <a:srgbClr val="000000"/>
                </a:solidFill>
                <a:latin typeface="Georgia"/>
              </a:rPr>
              <a:t>Kazakhstani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DIS in crisis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00080" y="1785960"/>
            <a:ext cx="76867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Kazakhstani banking sector is highly concentrated – 5 largest banks holds about 75% of total amount of retail deposits as well as total amount of the banks’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7756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utcomes for the KDIF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28800" y="1700280"/>
            <a:ext cx="7819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in portion of the premiums to the KDIF paid by mentioned 5 ban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case of the failure of some of these banks the reserve deficit might be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of reserve deficit’s financing by member-banks extra premiums in crisis environment is not applic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499680"/>
            <a:ext cx="797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eorgia"/>
              </a:rPr>
              <a:t>State’ financial support of the DI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57200" y="155736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755640" y="1844640"/>
            <a:ext cx="7632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uthorized capital of the KDIF was increased by the Central Bank from 16 bln. KZT up to 110 bln. KZT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≈735 mln.$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entral Bank will continue to increase every year the KDIF’ authorized capital by 10% till end of 2011 within State Anti-crisis Progra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4000" y="170028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500" spc="-1" strike="noStrike">
                <a:solidFill>
                  <a:srgbClr val="ffff66"/>
                </a:solidFill>
                <a:latin typeface="Lucida Console"/>
              </a:rPr>
              <a:t>Thank you for</a:t>
            </a:r>
            <a:br>
              <a:rPr sz="5500"/>
            </a:br>
            <a:r>
              <a:rPr b="0" i="1" lang="en-US" sz="5500" spc="-1" strike="noStrike">
                <a:solidFill>
                  <a:srgbClr val="ffff66"/>
                </a:solidFill>
                <a:latin typeface="Lucida Console"/>
              </a:rPr>
              <a:t>your attention</a:t>
            </a:r>
            <a:endParaRPr b="1" lang="en-US" sz="55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37" name="Picture 9" descr=""/>
          <p:cNvPicPr/>
          <p:nvPr/>
        </p:nvPicPr>
        <p:blipFill>
          <a:blip r:embed="rId1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eorgia"/>
              </a:rPr>
              <a:t>Sources of the KDIF’ reserve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57160" y="2133720"/>
            <a:ext cx="807264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453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er bank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emi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27120" indent="-453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KDIF’ authorized capital (up to 50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27120" indent="-453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veries from the assets of forcibly liquidated b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27120" indent="-45396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stment prof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27120" indent="-453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(penalties, et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tructure of the special reserve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as of the 3 quarter 200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91" name="Object 29"/>
          <p:cNvGraphicFramePr/>
          <p:nvPr/>
        </p:nvGraphicFramePr>
        <p:xfrm>
          <a:off x="465120" y="1596960"/>
          <a:ext cx="830736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596960"/>
                    <a:ext cx="830736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Picture 2" descr="C:\Documents and Settings\User\Мои документы\Мои рисунки\KDIF\IADI.JPG"/>
          <p:cNvPicPr/>
          <p:nvPr/>
        </p:nvPicPr>
        <p:blipFill>
          <a:blip r:embed="rId3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"/>
          <p:cNvPicPr/>
          <p:nvPr/>
        </p:nvPicPr>
        <p:blipFill>
          <a:blip r:embed="rId4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8"/>
          <p:cNvSpPr/>
          <p:nvPr/>
        </p:nvSpPr>
        <p:spPr>
          <a:xfrm>
            <a:off x="3185280" y="3141720"/>
            <a:ext cx="33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Verdana"/>
              </a:rPr>
              <a:t>64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6209640" y="2421000"/>
            <a:ext cx="33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Verdana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6630120" y="3573360"/>
            <a:ext cx="24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7854120" y="3500280"/>
            <a:ext cx="24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5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unding of the KDIF reserve’s defici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Oval 4"/>
          <p:cNvSpPr/>
          <p:nvPr/>
        </p:nvSpPr>
        <p:spPr>
          <a:xfrm>
            <a:off x="3449520" y="2214720"/>
            <a:ext cx="2664000" cy="1031760"/>
          </a:xfrm>
          <a:prstGeom prst="ellipse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DIF reserve’s def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857160" y="4175280"/>
            <a:ext cx="1944720" cy="1135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anks’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itiona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emiu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665520" y="4435560"/>
            <a:ext cx="2232000" cy="61236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orrowing from Central Ban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V="1">
            <a:off x="1720800" y="3142800"/>
            <a:ext cx="2303640" cy="103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6545160" y="4175280"/>
            <a:ext cx="2232000" cy="1135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anks’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traordinar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emiu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 flipH="1" flipV="1">
            <a:off x="4745160" y="3244680"/>
            <a:ext cx="1440" cy="113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"/>
          <p:cNvSpPr/>
          <p:nvPr/>
        </p:nvSpPr>
        <p:spPr>
          <a:xfrm flipH="1" flipV="1">
            <a:off x="5394240" y="3220920"/>
            <a:ext cx="2232000" cy="9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6"/>
          <p:cNvSpPr/>
          <p:nvPr/>
        </p:nvSpPr>
        <p:spPr>
          <a:xfrm>
            <a:off x="5394240" y="3220920"/>
            <a:ext cx="0" cy="1160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85880" y="928800"/>
            <a:ext cx="79293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y responsibility for paying the cost of deposit insurance should be borne by banks since they and their clients directly benefit from having an effective deposit insurance system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11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Principle, Core principles for effective deposit insurance system, BCBS and IAD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KDIF’ special reserv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21" name="Object 90"/>
          <p:cNvGraphicFramePr/>
          <p:nvPr/>
        </p:nvGraphicFramePr>
        <p:xfrm>
          <a:off x="539640" y="1647720"/>
          <a:ext cx="8261640" cy="44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7720"/>
                    <a:ext cx="826164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Picture 2" descr="C:\Documents and Settings\User\Мои документы\Мои рисунки\KDIF\IADI.JPG"/>
          <p:cNvPicPr/>
          <p:nvPr/>
        </p:nvPicPr>
        <p:blipFill>
          <a:blip r:embed="rId3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"/>
          <p:cNvPicPr/>
          <p:nvPr/>
        </p:nvPicPr>
        <p:blipFill>
          <a:blip r:embed="rId4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78"/>
          <p:cNvSpPr/>
          <p:nvPr/>
        </p:nvSpPr>
        <p:spPr>
          <a:xfrm rot="16200000">
            <a:off x="590760" y="3284640"/>
            <a:ext cx="49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bln.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KZ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"/>
          <p:cNvPicPr/>
          <p:nvPr/>
        </p:nvPicPr>
        <p:blipFill>
          <a:blip r:embed="rId5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785520"/>
            <a:ext cx="797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Premiums’ levy mechanism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28800" y="2643120"/>
            <a:ext cx="7758000" cy="21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at rate premium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l rate premium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lat rate premium system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00080" y="1856880"/>
            <a:ext cx="76867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n Kazakhstan: 1999 – 2006 year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Rates: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1) 0.16% per quarter (0.64% annually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2) 0.25% per quarter (1% annually) for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new banks for first 2 year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9T09:19:16Z</dcterms:created>
  <dc:creator>Karima Omarova</dc:creator>
  <dc:description/>
  <dc:language>en-US</dc:language>
  <cp:lastModifiedBy>Pratik Mitra</cp:lastModifiedBy>
  <dcterms:modified xsi:type="dcterms:W3CDTF">2010-01-15T08:01:03Z</dcterms:modified>
  <cp:revision>35</cp:revision>
  <dc:subject/>
  <dc:title>FUNDING sources, mechanisms and critical issues. Experience of the KDIF</dc:title>
</cp:coreProperties>
</file>