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e5eb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4B8D-7288-41B3-B2FC-7DD376A85B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E033-33FC-4FA2-9C18-BE8269BE36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12F5-8B7B-407C-B98F-7C2C1AB282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4571640"/>
            <a:ext cx="6019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1.</a:t>
            </a:r>
            <a:r>
              <a:rPr b="1" lang="zh-TW" sz="13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向政府或央行借款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Borrowing from government or central bank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1)</a:t>
            </a:r>
            <a:r>
              <a:rPr b="1" lang="zh-TW" sz="13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不可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向政府或央行借款之國家：泰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Deposit insurer cannot borrow funds from government or central bank: Thailan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2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有</a:t>
            </a:r>
            <a:r>
              <a:rPr b="1" lang="zh-TW" sz="13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政府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提供</a:t>
            </a:r>
            <a:r>
              <a:rPr b="1" lang="zh-TW" sz="13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保證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的國家：日、韓、馬、台、越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Deposit insurer with government guarantee when borrowing: Japan 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Korea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Malaysia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Taiwan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Vietna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3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香港可向外匯準備基金借款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 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Hong Kong can borrow money from Foreign Exchange Reserve Fun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2.</a:t>
            </a:r>
            <a:r>
              <a:rPr b="1" lang="zh-TW" sz="13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向金融機構融資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Borrowing from financial institution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1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可向金融機構融資的國家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括號為借款之信用風險權數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：港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100%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日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0%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韓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0%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新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視有政府保證而定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台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20%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泰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0%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菲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未提供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越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0%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Deposit insurers can borrow money from financial institution:Hong Kong (credit risk weight: 100%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Japan (0%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Korea (0%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Singapore (depending on government guarantee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Taiwan (20%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Thailand (0%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the Philippines (no response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Vietnam (0%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2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有</a:t>
            </a:r>
            <a:r>
              <a:rPr b="1" lang="zh-TW" sz="13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政府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提供</a:t>
            </a:r>
            <a:r>
              <a:rPr b="1" lang="zh-TW" sz="13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保證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的國家：日、越。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Deposit insurers with government guarantee: Japan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Vietna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3. 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多數國家基於存保機構之公營性質，借款時金融機構之信用風險權數為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0% (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港、台除外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。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Most deposit insurers are public corporations, so the credit risk weight is 0% when they borrow funds from the financial institution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E925-C38A-44AB-B3BB-89F38B4F4B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33160" y="4647960"/>
            <a:ext cx="57466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可發債之國家：日、韓、馬、俄、新、泰、菲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Deposit insurers can raise funds by bond issuance: Japan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Korea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Malaysia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Russia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Singapore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Thailand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Philippin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2. 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有回卷表達發債</a:t>
            </a:r>
            <a:r>
              <a:rPr b="1" lang="zh-TW" sz="15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免</a:t>
            </a:r>
            <a:r>
              <a:rPr b="1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信評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之國家：日、韓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Bond issuance without the requirement of credit rating: Japan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Kore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3. 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有回卷表達發債</a:t>
            </a:r>
            <a:r>
              <a:rPr b="1" lang="zh-TW" sz="15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要</a:t>
            </a:r>
            <a:r>
              <a:rPr b="1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信評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之國家：泰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Bond issuance with the requirement of credit rating: Thailan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4. 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其餘未表明發債是否須信評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馬、新、菲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);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俄羅斯表示法令未明定是否須信評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,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但不反對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Malaysia, Singapore and the Philippines did not respond if they need the credit rating; while Russia said the law does not stipulate credit rating, but it has no objection if the rating is required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8E06-F9BD-426F-89C7-785D164095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資本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(Capital) (P. 6 vs P. 12)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有些國家之資本並不屬存款保險基金之一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例如台灣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，故在此頁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Capital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一欄並未打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V”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。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標楷體"/>
              </a:rPr>
              <a:t>(</a:t>
            </a:r>
            <a:r>
              <a:rPr b="0" lang="zh-TW" sz="1600" spc="-1" strike="noStrike">
                <a:solidFill>
                  <a:srgbClr val="3333cc"/>
                </a:solidFill>
                <a:latin typeface="Arial"/>
                <a:ea typeface="標楷體"/>
              </a:rPr>
              <a:t>部分國家尚在確認中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標楷體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標楷體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In some countries, the start-up capital is not part of the deposit insurance fund, for example, Taiwan; therefore, in this slide, the capital column is not mark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CFEF-B278-4915-A8F8-DABF8E95BE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380880" y="4648320"/>
            <a:ext cx="6096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1.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有設</a:t>
            </a:r>
            <a:r>
              <a:rPr b="1" lang="zh-TW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目標值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的國家：港、印尼、哈、俄、新、台、菲。比率自保額內存款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0.3% (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港、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) </a:t>
            </a:r>
            <a:r>
              <a:rPr b="0" lang="en-US" sz="1400" spc="-1" strike="noStrike">
                <a:solidFill>
                  <a:srgbClr val="000000"/>
                </a:solidFill>
                <a:latin typeface="新細明體"/>
              </a:rPr>
              <a:t>~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承保項目總存款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5%(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)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不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Deposit insurers with target ratio: Hong Kong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Indonesia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Kazakhstan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Russia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Singapore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Taiwan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the Philippines. The ratio ranges from 0.3% of insured deposits (Hong Kong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Singapore) to 5% of insurable deposits (Kazakhsta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2.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當</a:t>
            </a:r>
            <a:r>
              <a:rPr b="1" lang="zh-TW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達到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目標值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(When reaching the target ratio)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(1)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有退費機制的國家：港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Deposit insurer with refund system: Hong Ko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(2)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會降低保費的國家：印尼、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 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Deposit insurers that will lower the premium: Indonesia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Russ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3.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當</a:t>
            </a:r>
            <a:r>
              <a:rPr b="1" lang="zh-TW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低於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目標值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(When under the target ratio)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(1)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徵收特別保費：港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Hong Kong can charge the special prem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4.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有</a:t>
            </a:r>
            <a:r>
              <a:rPr b="1" lang="zh-TW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定期檢視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目標值機制的國家：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每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每二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 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Russia (annually) and the Philippines (every two years) review the target value periodicall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C46B-535C-4347-9583-0E1CECE7BA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09480" y="4647960"/>
            <a:ext cx="55627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當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DIF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為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(When deposit insurance fund is in deficit)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1.   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沒有政府挹注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資金的國家：港、印度、新、泰、越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No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und injected from government: Hong Kong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India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Singapore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Thailand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Vietn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2.  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徵收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一般保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的國家：印度、印尼、日、馬、俄、越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India, Indonesia, Malaysia, Russia and Vietnam can charge the general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3.  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徵收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特別保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的國家：港、日、哈、韓、馬、新、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其中在系統性危機時才能徵收特別保費的國家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: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日、韓、台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Deposit insurers which can collect the special premium: Hong Kong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Japan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Kazakhstan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Korea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Malaysia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Singapore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Taiwan. Among them, Japan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Korea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Taiwan can do so only when there is a systemic cris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FFC2-4D35-408F-A412-2A9CDD0227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4648320"/>
            <a:ext cx="5867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1.   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保費收入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要課稅的國家：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Taiwan CDIC’s premium income is tax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2.   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投資政府債券所得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要課稅的國家：印尼、菲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Government bond investment income of IDIC (Indonesia) and PDIC (the Philippines) is tax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3.    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其他所得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要課稅的國家：印尼、哈、俄、菲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Other income of IDIC (Indonesia), KDIF (Kazakhstan), DIA Russia and PDIC (the Philippines) is tax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4.    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盈餘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要課稅的國家：印度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The surplus of DICGC (India) is tax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5.   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盈餘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不轉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DIF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的國家：馬來西亞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00ff"/>
                </a:solidFill>
                <a:latin typeface="Arial"/>
                <a:ea typeface="標楷體"/>
              </a:rPr>
              <a:t>帳務作法待研究中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  <a:ea typeface="標楷體"/>
              </a:rPr>
              <a:t>)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MDIC (Malaysia) does not transfer its surplus to the DI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ADDE-65FF-4D0A-99AA-6B41BE3595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EF84-9D4B-4501-9D0F-B3DB4B96C6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相關細節資料彙整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1531-B4E2-4E50-910F-BEC63FB2B9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09120" y="4723920"/>
            <a:ext cx="4984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1.  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無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系統性機制法規的國家：港、印度、泰、越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Hong Kong, India, Thailand and Vietnam do not stipulat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細明體"/>
              </a:rPr>
              <a:t>a mechanism for handling a systemic crisis in the Deposit Insurance Act or other law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細明體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2.  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有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系統性機制法規的國家，除哈、俄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均訂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Special Emergency Law)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及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(Banking Act)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外，其餘皆訂於存保條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Except Kazakhstan and Russia, which stipulate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細明體"/>
              </a:rPr>
              <a:t>mechanism for handling a systemic crisis in the Special Emergency Law, and Singapore, which is in the Banking Act, all other jurisdictions stipulate in the Deposit Insurance A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0117-6FBE-4BBF-9ECA-B893202485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62120" y="4647960"/>
            <a:ext cx="5410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1.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有保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保額內存款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的國家：全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All deposit insurers cover the insured deposits in full during the financial cris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2.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有保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保額外存款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的國家：印尼、日、哈、韓、馬、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 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Indonesia, Japan, Kazakhstan, Korea, Malaysia and Taiwan also cover the uninsured depos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3.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有保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非存款負債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的國家：印尼、馬、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Indonesia, Malaysia and Taiwan also cover the non-deposit liabil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AB3D-D571-4142-B89A-F0A4739B2D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8E47-797A-43A2-90E6-1E049294AC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62120" y="4723920"/>
            <a:ext cx="53337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1. 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有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調高保額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的國家：印尼、哈、俄、菲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posit insurers raising coverage limit: Indonesia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Kazakhstan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Russia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the Philippi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2. 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實施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全額保障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的國家：港、馬、新、台、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posit insurers providing the blanket guarantee: Hong Kong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Malaysia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Singapore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Taiwan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Thail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4AEF-F62F-4029-BA09-5C622374E9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62120" y="4800240"/>
            <a:ext cx="54100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1.  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降費率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的國家：哈、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Kazakhstan and Russia decreased the premium rat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support banks with liquid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有收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特別保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的國家：馬、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Malaysia and Taiwan collected the special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8AA0-DA81-470F-B646-05A5391551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A0F0-5EAC-45B5-AF97-A7D0D2084B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2317-BF63-4B32-A395-2F2F7C0C4E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910E-AC3D-449B-863C-FAF2D091BF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62E6-5A98-45E5-A303-CBB4716B60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FD88-A9A7-455F-A2CD-A33E18155C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62120" y="4647960"/>
            <a:ext cx="53337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1.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賠付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: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港、印度、新、泰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Paybox: Hong Kong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India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Singapore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Thail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2.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組織型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: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日本是半公營法人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Organization: Japan is a semi-public corpor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3.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全部強制投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其中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台灣有審核權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)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The membership are all mandatory, except Taiwan,   which is the mandatory application but subject to CDIC’s approv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F7BD-C069-4191-BD61-D0F69F0EF7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86F2-C295-4DDA-879E-88FBA7AEE2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CEEC-38D1-4EDF-8D3B-8F1BFFA8B8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沒有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資本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的國家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: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港、韓、馬、新、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Deposit insurers without start-up capital: Hong Kong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Korea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Malaysia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Singapore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Thail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FB08-5A27-4644-83CE-C3D6C41B8A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533520" y="4716000"/>
            <a:ext cx="5790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1. </a:t>
            </a:r>
            <a:r>
              <a:rPr b="1" lang="zh-TW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差別費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(differential premium)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(1)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2005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年實施差別費率國家：港、新、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Deposit insurers implementing differential premium system in 2005: Hong Kong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Singapore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Taiw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(2)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2009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年實施差別費率國家：港、新、台、</a:t>
            </a:r>
            <a:r>
              <a:rPr b="1" lang="zh-TW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哈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1" lang="zh-TW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馬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1" lang="zh-TW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印尼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正規劃實施差別費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Deposit insurers implementing differential premium system in 2009: Hong Kong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Singapore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Taiwan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Kazakhstan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Malaysi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. In addition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Indonesi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 is planning to implement differential premium syst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2. </a:t>
            </a:r>
            <a:r>
              <a:rPr b="1" lang="zh-TW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特別保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(special premium)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徵收特別保費的國家：港、日、哈、韓、馬、新、台；其中在</a:t>
            </a:r>
            <a:r>
              <a:rPr b="1" lang="zh-TW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系統性危機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時才能徵收的國家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: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日、韓、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Deposit insurers which can collect the special premiu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Hong Kong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Japan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Kazakhstan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Korea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Malaysia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Singapore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Taiwan. Among them, Japan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Korea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Taiwan can do so only when there is a systemic crisi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1638-AEC8-4A5C-9854-C4885437DE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51920" y="4572000"/>
            <a:ext cx="632484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91960" indent="-291960"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可投資政府長短期債券、金融債券、存放央行或健全銀行</a:t>
            </a:r>
            <a:r>
              <a:rPr b="1" lang="zh-TW" sz="15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以外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之國家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非保本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：港、哈、俄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In addition to government bonds, notes,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ank debenture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  and deposits, deposit insurers which can invest in other financial products includ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(1)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香港：以避險為目的的衍生性金融商品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Hong Kong: Risk-hedging derivative financial produ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(2)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哈薩克：衍生性商品、附買回及附賣回交易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Kazakhstan: Derivative securities, REPO and reverse REPO transactions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(3)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俄羅斯：股票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Russia: c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orporate share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(4)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另印尼和泰國可投資在 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other”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項目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Moreover, Indonesia and Thailand can invest in the following products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-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印尼：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央行發行的有價證券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無細節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) 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Indonesia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Securities issued by central bank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-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泰國：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存放於專業金融機構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無細節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Thailand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Deposits in specialized financial institution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8629-3762-49E1-B49D-920672A70A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1. 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清理回收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和保費遲交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罰鍰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：全部國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 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Recovery from liquidation and penalties on late premium payment are also sources of the funding of all  deposit insur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2.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有金融機構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捐助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國家：印尼、韓、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Deposit insurers receiving the contribution from financial institutions: Indonesia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Korea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Russ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B1CD7-6980-4467-88FF-A417444354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634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340000" y="3777120"/>
            <a:ext cx="634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3B25F-C2A2-418B-8B4C-59F2E41849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92240" y="141300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340000" y="377712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92240" y="377712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619F8-17C1-4F08-A8D4-602A022C07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204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85960" y="1413000"/>
            <a:ext cx="204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1920" y="1413000"/>
            <a:ext cx="204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340000" y="3777120"/>
            <a:ext cx="204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85960" y="3777120"/>
            <a:ext cx="204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1920" y="3777120"/>
            <a:ext cx="204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019E0-76A4-4405-883C-5518E6C257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340000" y="14130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309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592240" y="1413000"/>
            <a:ext cx="309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626920" y="345600"/>
            <a:ext cx="482436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592240" y="1413000"/>
            <a:ext cx="309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340000" y="377712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340000" y="14130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6B366-48BF-440B-9FAF-0E915B3CED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309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592240" y="141300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592240" y="377712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592240" y="141300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340000" y="3777120"/>
            <a:ext cx="634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634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340000" y="3777120"/>
            <a:ext cx="634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92240" y="141300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340000" y="377712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592240" y="377712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204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85960" y="1413000"/>
            <a:ext cx="204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31920" y="1413000"/>
            <a:ext cx="204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340000" y="3777120"/>
            <a:ext cx="204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485960" y="3777120"/>
            <a:ext cx="204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31920" y="3777120"/>
            <a:ext cx="204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DD61B-8BCD-45E1-99C9-2FCE5947E3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309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92240" y="1413000"/>
            <a:ext cx="309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36242-0D66-47C9-B09D-7D4042F998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9F708-B4E3-4BDC-9D4F-D1FA074A32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626920" y="345600"/>
            <a:ext cx="482436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2EC15-5381-461A-8F33-C0A1551CEB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92240" y="1413000"/>
            <a:ext cx="309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340000" y="377712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4B01A-120B-4FBA-937A-D858C97D01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309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92240" y="141300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92240" y="377712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DB089-5909-4748-9A78-4C9EF1DF55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92240" y="141300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340000" y="3777120"/>
            <a:ext cx="634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2BBCE-4AAC-490B-9D15-B684DF1CFE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26920" y="345600"/>
            <a:ext cx="4824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e5e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40000" y="14130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2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326a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FC30-D809-41C0-9C19-AB4401E0B060}" type="slidenum">
              <a:rPr b="0" lang="en-US" sz="1400" spc="-1" strike="noStrike">
                <a:solidFill>
                  <a:srgbClr val="2d326a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Object 7"/>
          <p:cNvGraphicFramePr/>
          <p:nvPr/>
        </p:nvGraphicFramePr>
        <p:xfrm>
          <a:off x="0" y="304920"/>
          <a:ext cx="914400" cy="885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04920"/>
                    <a:ext cx="914400" cy="88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626920" y="345600"/>
            <a:ext cx="4824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e5e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340000" y="14130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866920" y="3933720"/>
            <a:ext cx="3429000" cy="18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新細明體"/>
              </a:rPr>
              <a:t>Howard N. H. Wang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新細明體"/>
              </a:rPr>
              <a:t>President</a:t>
            </a:r>
            <a:endParaRPr b="1" lang="en-US" sz="2000" spc="-1" strike="noStrike">
              <a:solidFill>
                <a:srgbClr val="666699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新細明體"/>
              </a:rPr>
              <a:t>Central Deposit Insurance Corp.</a:t>
            </a:r>
            <a:endParaRPr b="1" lang="en-US" sz="1600" spc="-1" strike="noStrike">
              <a:solidFill>
                <a:srgbClr val="666699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新細明體"/>
              </a:rPr>
              <a:t>(Taiwan)</a:t>
            </a:r>
            <a:endParaRPr b="1" lang="en-US" sz="1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-381240" y="1828440"/>
            <a:ext cx="7010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e5eb"/>
                </a:solidFill>
                <a:latin typeface="Arial"/>
                <a:ea typeface="新細明體"/>
              </a:rPr>
              <a:t>Funding Mechanisms of </a:t>
            </a:r>
            <a:br>
              <a:rPr sz="3200"/>
            </a:br>
            <a:r>
              <a:rPr b="1" lang="en-US" sz="3200" spc="-1" strike="noStrike">
                <a:solidFill>
                  <a:srgbClr val="dde5eb"/>
                </a:solidFill>
                <a:latin typeface="Arial"/>
                <a:ea typeface="新細明體"/>
              </a:rPr>
              <a:t>Deposit Insurance Systems </a:t>
            </a:r>
            <a:br>
              <a:rPr sz="3200"/>
            </a:br>
            <a:r>
              <a:rPr b="1" lang="en-US" sz="3200" spc="-1" strike="noStrike">
                <a:solidFill>
                  <a:srgbClr val="dde5eb"/>
                </a:solidFill>
                <a:latin typeface="Arial"/>
                <a:ea typeface="新細明體"/>
              </a:rPr>
              <a:t>in Asia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- ARC 2009 Research Paper</a:t>
            </a:r>
            <a:endParaRPr b="1" lang="en-US" sz="24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89" name="Text Box 1028"/>
          <p:cNvSpPr/>
          <p:nvPr/>
        </p:nvSpPr>
        <p:spPr>
          <a:xfrm>
            <a:off x="0" y="6472080"/>
            <a:ext cx="5292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ARC 8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新細明體"/>
              </a:rPr>
              <a:t>t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 Int’l Conference at Goa,  Jan. 19, 201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7" descr="C:\Users\pmitra\AppData\Local\Microsoft\Windows\Temporary Internet Files\Content.Outlook\FPXYD5H6\patch.jpg"/>
          <p:cNvPicPr/>
          <p:nvPr/>
        </p:nvPicPr>
        <p:blipFill>
          <a:blip r:embed="rId2"/>
          <a:stretch/>
        </p:blipFill>
        <p:spPr>
          <a:xfrm>
            <a:off x="857160" y="76320"/>
            <a:ext cx="7566120" cy="11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8A6E-7A69-479C-9B1F-A463EEBE630D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4963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For Liquidity Purpose—Borrowing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0" y="0"/>
            <a:ext cx="22096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s of DI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2280" y="1523880"/>
          <a:ext cx="7417080" cy="5106960"/>
        </p:xfrm>
        <a:graphic>
          <a:graphicData uri="http://schemas.openxmlformats.org/drawingml/2006/table">
            <a:tbl>
              <a:tblPr/>
              <a:tblGrid>
                <a:gridCol w="446040"/>
                <a:gridCol w="562320"/>
                <a:gridCol w="1150920"/>
                <a:gridCol w="2016000"/>
                <a:gridCol w="1728720"/>
                <a:gridCol w="1513080"/>
              </a:tblGrid>
              <a:tr h="368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Borrowing from govt. or central bank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Borrowing from FI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Govt.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entral bank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Guarantor if central bank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Financial Institutions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redit Risk weight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100%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govt.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0%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govt.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0%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govt.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Depending on government guarante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DIC/govt.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20%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0%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govt.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0%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5ABE-012E-4FBF-B122-0871B00E0D6F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026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963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For Liquidity Purpose—Bond Issuance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142" name="Text Box 1028"/>
          <p:cNvSpPr/>
          <p:nvPr/>
        </p:nvSpPr>
        <p:spPr>
          <a:xfrm>
            <a:off x="0" y="0"/>
            <a:ext cx="22096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s of DI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68360" y="1700280"/>
          <a:ext cx="7416720" cy="4968720"/>
        </p:xfrm>
        <a:graphic>
          <a:graphicData uri="http://schemas.openxmlformats.org/drawingml/2006/table">
            <a:tbl>
              <a:tblPr/>
              <a:tblGrid>
                <a:gridCol w="574560"/>
                <a:gridCol w="4824360"/>
                <a:gridCol w="2017800"/>
              </a:tblGrid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Debt-based Financin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redit rating required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Government-guaranteed deposit insurance bonds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o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Government-guaranteed DIF bonds and DIF bond repayment fund bond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o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Government guaranteed bonds, etc.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Deposit Insurance bonds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ot specifie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Any Debt Instrumen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Deposit insurance bonds, bills or other financial instruments approved by the Minister of Financ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(for public offering)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Bonds, debentures or other obligation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B011-4FAE-42AC-916B-44F2DF026B4C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4963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Comparison of Sources of DIF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0"/>
            <a:ext cx="22096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s of DI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50920" y="1628640"/>
          <a:ext cx="7850160" cy="4819680"/>
        </p:xfrm>
        <a:graphic>
          <a:graphicData uri="http://schemas.openxmlformats.org/drawingml/2006/table">
            <a:tbl>
              <a:tblPr/>
              <a:tblGrid>
                <a:gridCol w="504720"/>
                <a:gridCol w="615960"/>
                <a:gridCol w="752400"/>
                <a:gridCol w="719280"/>
                <a:gridCol w="649080"/>
                <a:gridCol w="863640"/>
                <a:gridCol w="503280"/>
                <a:gridCol w="936720"/>
                <a:gridCol w="936720"/>
                <a:gridCol w="647640"/>
                <a:gridCol w="720720"/>
              </a:tblGrid>
              <a:tr h="3988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evenue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Liquidity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apital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remium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Earnings 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on 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vest-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ent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ecovery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from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Liquidation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Other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Accommodation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Bond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ssuance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3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General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pecial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Fine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ontribution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Accommodation from 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Government / Central Bank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Loans from FI 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0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2322-A8B2-4F25-A2CD-575F8128B135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Administration of DIF-</a:t>
            </a:r>
            <a:br>
              <a:rPr sz="32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新細明體"/>
              </a:rPr>
              <a:t>Setting of DIF Target Value</a:t>
            </a:r>
            <a:r>
              <a:rPr b="1" lang="en-US" sz="3200" spc="-1" strike="noStrike">
                <a:solidFill>
                  <a:srgbClr val="dde5eb"/>
                </a:solidFill>
                <a:latin typeface="Arial"/>
                <a:ea typeface="新細明體"/>
              </a:rPr>
              <a:t> 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95280" y="1628640"/>
          <a:ext cx="7489800" cy="4824720"/>
        </p:xfrm>
        <a:graphic>
          <a:graphicData uri="http://schemas.openxmlformats.org/drawingml/2006/table">
            <a:tbl>
              <a:tblPr/>
              <a:tblGrid>
                <a:gridCol w="593640"/>
                <a:gridCol w="558720"/>
                <a:gridCol w="4753080"/>
                <a:gridCol w="1584360"/>
              </a:tblGrid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DIF Target Valu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eriodical revie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0.3% of the insured deposi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2.5% of the insurable deposi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ot less than 5% of the insurable deposi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MDIC is currently developing a target fund framewor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5% of insured deposits (excluding banks with ratings equal or higher than the Russian Federation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細明體"/>
                        </a:rPr>
                        <a:t>’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 rating)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1 yea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0.3% of the insured deposi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2% of the insured deposi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92.5 bill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2 year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5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E0F8-A32F-42B3-A30B-FFDF6412CEB0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49636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Methods for Dealing with DIF Deficits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0" y="0"/>
            <a:ext cx="248436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ministration of DI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8360" y="1628640"/>
          <a:ext cx="7343640" cy="4896000"/>
        </p:xfrm>
        <a:graphic>
          <a:graphicData uri="http://schemas.openxmlformats.org/drawingml/2006/table">
            <a:tbl>
              <a:tblPr/>
              <a:tblGrid>
                <a:gridCol w="569880"/>
                <a:gridCol w="2197080"/>
                <a:gridCol w="2333520"/>
                <a:gridCol w="2243160"/>
              </a:tblGrid>
              <a:tr h="322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Government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remium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General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pecial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1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C94C-486A-4742-BADD-298665AFA943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026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456840"/>
            <a:ext cx="83628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Handling of Taxes and Surpluses</a:t>
            </a:r>
            <a:r>
              <a:rPr b="1" lang="en-US" sz="3200" spc="-1" strike="noStrike">
                <a:solidFill>
                  <a:srgbClr val="dde5eb"/>
                </a:solidFill>
                <a:latin typeface="Arial"/>
                <a:ea typeface="新細明體"/>
              </a:rPr>
              <a:t> 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1628640"/>
          <a:ext cx="7561080" cy="4969080"/>
        </p:xfrm>
        <a:graphic>
          <a:graphicData uri="http://schemas.openxmlformats.org/drawingml/2006/table">
            <a:tbl>
              <a:tblPr/>
              <a:tblGrid>
                <a:gridCol w="560160"/>
                <a:gridCol w="1866960"/>
                <a:gridCol w="2146320"/>
                <a:gridCol w="841320"/>
                <a:gridCol w="933480"/>
                <a:gridCol w="1212840"/>
              </a:tblGrid>
              <a:tr h="304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ax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urplu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9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remium Incom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Government Bond Investment Incom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Other Incom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urplu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ransfer to DIF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6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9066-A00E-4A3D-9CFF-925A668B3719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456840"/>
            <a:ext cx="84960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Dealing with Systemic Crises</a:t>
            </a:r>
            <a:r>
              <a:rPr b="1" lang="en-US" sz="3200" spc="-1" strike="noStrike">
                <a:solidFill>
                  <a:srgbClr val="dde5eb"/>
                </a:solidFill>
                <a:latin typeface="Arial"/>
                <a:ea typeface="新細明體"/>
              </a:rPr>
              <a:t> 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170" name="Rectangle 116"/>
          <p:cNvSpPr/>
          <p:nvPr/>
        </p:nvSpPr>
        <p:spPr>
          <a:xfrm>
            <a:off x="684360" y="1700280"/>
            <a:ext cx="741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Agencies responsible for dealing with  systemic cri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Mechanism for dealing with systemic cri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Scope of protection during the financial cri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Reactions to the global financial crisis in terms of coverage and premi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Difference between the funding sources for an individual failure and a systemic crisi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1005-333F-4EA6-AABC-3B392931DC1C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49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新細明體"/>
              </a:rPr>
              <a:t>Agencies Responsible for </a:t>
            </a: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新細明體"/>
              </a:rPr>
              <a:t>Dealing with Systemic Crises</a:t>
            </a:r>
            <a:r>
              <a:rPr b="1" lang="en-US" sz="3200" spc="-1" strike="noStrike">
                <a:solidFill>
                  <a:srgbClr val="dde5eb"/>
                </a:solidFill>
                <a:latin typeface="Arial"/>
                <a:ea typeface="新細明體"/>
              </a:rPr>
              <a:t> 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0" y="0"/>
            <a:ext cx="31240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aling with Systemic Cris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1676520"/>
          <a:ext cx="7416720" cy="4964040"/>
        </p:xfrm>
        <a:graphic>
          <a:graphicData uri="http://schemas.openxmlformats.org/drawingml/2006/table">
            <a:tbl>
              <a:tblPr/>
              <a:tblGrid>
                <a:gridCol w="590400"/>
                <a:gridCol w="1706760"/>
                <a:gridCol w="1138320"/>
                <a:gridCol w="2274840"/>
                <a:gridCol w="947520"/>
                <a:gridCol w="758880"/>
              </a:tblGrid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Agencies Responsible for Dealing with Systemic Crise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entral Ban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inistry of Financ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Financial Supervisory Agency/Commiss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Deposit Insure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Othe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7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EA11-D9D6-42F6-96F7-A1E74E04B533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026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820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新細明體"/>
              </a:rPr>
              <a:t>Mechanism for </a:t>
            </a: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新細明體"/>
              </a:rPr>
              <a:t>Dealing with Systemic Crises</a:t>
            </a:r>
            <a:endParaRPr b="1" lang="en-US" sz="3000" spc="-1" strike="noStrike">
              <a:solidFill>
                <a:srgbClr val="dde5eb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80880" y="1647720"/>
          <a:ext cx="7632720" cy="5062680"/>
        </p:xfrm>
        <a:graphic>
          <a:graphicData uri="http://schemas.openxmlformats.org/drawingml/2006/table">
            <a:tbl>
              <a:tblPr/>
              <a:tblGrid>
                <a:gridCol w="595440"/>
                <a:gridCol w="1258920"/>
                <a:gridCol w="2260440"/>
                <a:gridCol w="3517920"/>
              </a:tblGrid>
              <a:tr h="2800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echanism for Dealing with Systemic Crise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Y/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tipul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Deposit Insurance Act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Othe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Special emergency la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t  on the Structural Improvement of the Financial Industr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Special emergency la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Banking Act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Text Box 1826"/>
          <p:cNvSpPr/>
          <p:nvPr/>
        </p:nvSpPr>
        <p:spPr>
          <a:xfrm>
            <a:off x="0" y="0"/>
            <a:ext cx="31240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aling with Systemic Cris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BF01-83DF-4A51-BDB0-04DFC49397D1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820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新細明體"/>
              </a:rPr>
              <a:t>Scope of Protection During Financial Crisis</a:t>
            </a:r>
            <a:r>
              <a:rPr b="1" lang="en-US" sz="3200" spc="-1" strike="noStrike">
                <a:solidFill>
                  <a:srgbClr val="dde5eb"/>
                </a:solidFill>
                <a:latin typeface="Arial"/>
                <a:ea typeface="新細明體"/>
              </a:rPr>
              <a:t> 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09480" y="1523880"/>
          <a:ext cx="6934320" cy="4919760"/>
        </p:xfrm>
        <a:graphic>
          <a:graphicData uri="http://schemas.openxmlformats.org/drawingml/2006/table">
            <a:tbl>
              <a:tblPr/>
              <a:tblGrid>
                <a:gridCol w="708120"/>
                <a:gridCol w="1839960"/>
                <a:gridCol w="2176560"/>
                <a:gridCol w="2209680"/>
              </a:tblGrid>
              <a:tr h="55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sured Deposi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Uninsured Deposi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Non-deposit Liabilitie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Text Box 194"/>
          <p:cNvSpPr/>
          <p:nvPr/>
        </p:nvSpPr>
        <p:spPr>
          <a:xfrm>
            <a:off x="0" y="0"/>
            <a:ext cx="31240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aling with Systemic Cris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91B4-031A-49BF-B3D4-1886EEBA91F6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11280" y="1557000"/>
            <a:ext cx="730872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1520" indent="-101520">
              <a:lnSpc>
                <a:spcPct val="12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Basic frameworks of the deposit insurance systems (DIS)</a:t>
            </a:r>
            <a:r>
              <a:rPr b="1" lang="en-US" sz="2400" spc="-1" strike="noStrike">
                <a:solidFill>
                  <a:srgbClr val="454567"/>
                </a:solidFill>
                <a:latin typeface="Times New Roman"/>
                <a:ea typeface="新細明體"/>
              </a:rPr>
              <a:t>*</a:t>
            </a: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 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marL="101520" indent="-101520">
              <a:lnSpc>
                <a:spcPct val="12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Deposit insurance fund functions 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marL="101520" indent="-101520">
              <a:lnSpc>
                <a:spcPct val="12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Sources of deposit insurance fund (DIF)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marL="101520" indent="-101520">
              <a:lnSpc>
                <a:spcPct val="12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Administration of DIF 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marL="101520" indent="-101520">
              <a:lnSpc>
                <a:spcPct val="12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Handling of taxes and surpluses 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marL="101520" indent="-101520">
              <a:lnSpc>
                <a:spcPct val="12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Dealing with systemic crises 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marL="101520" indent="-101520">
              <a:lnSpc>
                <a:spcPct val="12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Conclusion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marL="10152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666699"/>
              </a:solidFill>
              <a:latin typeface="Arial"/>
            </a:endParaRPr>
          </a:p>
          <a:p>
            <a:pPr marL="10152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54567"/>
                </a:solidFill>
                <a:latin typeface="Arial"/>
                <a:ea typeface="新細明體"/>
              </a:rPr>
              <a:t>* 13 deposit insurers were surveyed in this study, including: HK=Hong Kong; IN=India; ID=Indonesia; JP=Japan; KZ=Kazakhstan; KR=Korea; MY=Malaysia; RU=Russia; SG=Singapore; TW=Taiwan; TH=Thailand; PH=The Philippines; VN=Vietnam. </a:t>
            </a:r>
            <a:endParaRPr b="1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09120" y="4572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Contents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pic>
        <p:nvPicPr>
          <p:cNvPr id="94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BEA3-73BB-4837-92E8-D20FD87A87A2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新細明體"/>
              </a:rPr>
              <a:t>Reactions—Coverage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新細明體"/>
              </a:rPr>
              <a:t>Adjustments</a:t>
            </a:r>
            <a:endParaRPr b="1" lang="en-US" sz="2800" spc="-1" strike="noStrike">
              <a:solidFill>
                <a:srgbClr val="dde5eb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280" y="1523880"/>
          <a:ext cx="8077320" cy="5105520"/>
        </p:xfrm>
        <a:graphic>
          <a:graphicData uri="http://schemas.openxmlformats.org/drawingml/2006/table">
            <a:tbl>
              <a:tblPr/>
              <a:tblGrid>
                <a:gridCol w="480960"/>
                <a:gridCol w="576360"/>
                <a:gridCol w="1305000"/>
                <a:gridCol w="1378080"/>
                <a:gridCol w="1269720"/>
                <a:gridCol w="598680"/>
                <a:gridCol w="2468520"/>
              </a:tblGrid>
              <a:tr h="46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crease in Coverag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Full Coverage / Blanket Guarante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Y/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Du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overage From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overage To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Y/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Du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10/14/ 2008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細明體"/>
                        </a:rPr>
                        <a:t>–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 12/31/201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10/13/2008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P 100 mill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P 2 bill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10/23/2008- 01/01/2012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KZT 0.7 mill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KZT 5 mill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10/16/2008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細明體"/>
                        </a:rPr>
                        <a:t>–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 12/31/201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10/1/2008- Permanent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UB 400,00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UB 700,00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10/16/2008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細明體"/>
                        </a:rPr>
                        <a:t>–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 12/31/201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10/7/2008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細明體"/>
                        </a:rPr>
                        <a:t>–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 12/31/201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10/28/2008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細明體"/>
                        </a:rPr>
                        <a:t>–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 8/10/2011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6/1/2009- Permanent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Peso 250,00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Peso 500,00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Text Box 898"/>
          <p:cNvSpPr/>
          <p:nvPr/>
        </p:nvSpPr>
        <p:spPr>
          <a:xfrm>
            <a:off x="0" y="0"/>
            <a:ext cx="31240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aling with Systemic Cris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34EF-409D-4F7E-83BE-FF5CAD0864BF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1628640"/>
          <a:ext cx="7826400" cy="5072040"/>
        </p:xfrm>
        <a:graphic>
          <a:graphicData uri="http://schemas.openxmlformats.org/drawingml/2006/table">
            <a:tbl>
              <a:tblPr/>
              <a:tblGrid>
                <a:gridCol w="610920"/>
                <a:gridCol w="586080"/>
                <a:gridCol w="1143000"/>
                <a:gridCol w="2286000"/>
                <a:gridCol w="685800"/>
                <a:gridCol w="2514600"/>
              </a:tblGrid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hange in Premium rate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ollection of Special Premium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Y/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Du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ontent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Y/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Du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Since January 2008 the premium rates were decreased by 25%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10/16/2008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細明體"/>
                        </a:rPr>
                        <a:t>–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 12/31/201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ermanent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Starting October 2008 the premium rate was decreased from 0.13 to 0.10% per quarte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11/1/2008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細明體"/>
                        </a:rPr>
                        <a:t>–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 12/31/201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新細明體"/>
              </a:rPr>
              <a:t>Reactions—Premium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新細明體"/>
              </a:rPr>
              <a:t>Adjustments</a:t>
            </a:r>
            <a:endParaRPr b="1" lang="en-US" sz="28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200" name="Text Box 156"/>
          <p:cNvSpPr/>
          <p:nvPr/>
        </p:nvSpPr>
        <p:spPr>
          <a:xfrm>
            <a:off x="0" y="0"/>
            <a:ext cx="31240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aling with Systemic Cris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1DDC-C8EE-47E4-B45F-7AA48B054FFF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820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新細明體"/>
              </a:rPr>
              <a:t>Difference between the Funding Sources for An Individual Failure &amp; A Systemic Crisis</a:t>
            </a:r>
            <a:endParaRPr b="1" lang="en-US" sz="26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205" name="Text Box 132"/>
          <p:cNvSpPr/>
          <p:nvPr/>
        </p:nvSpPr>
        <p:spPr>
          <a:xfrm>
            <a:off x="0" y="0"/>
            <a:ext cx="31240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aling with Systemic Cris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28600" y="1523880"/>
          <a:ext cx="8001000" cy="5153040"/>
        </p:xfrm>
        <a:graphic>
          <a:graphicData uri="http://schemas.openxmlformats.org/drawingml/2006/table">
            <a:tbl>
              <a:tblPr/>
              <a:tblGrid>
                <a:gridCol w="493560"/>
                <a:gridCol w="2306880"/>
                <a:gridCol w="520056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ame as Funding Sources for an Individual Failur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Other Funding Sourc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Government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96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During the present crisis and in case of a deficit the Central Bank and the national welfare fund “Samruk-Kazyna” are defined as the funding sources till the end of 2011.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After January 2012: Additional premiums from the financial institutions.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The “emergency” law which authorizes the Agency to take measures aimed at prevention of bankruptcies of systemically important banks will be effective till Dec. 31, 2011.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Special premium can be charged from insured institutions when there is the possibility of a systemic crisis.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7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C305-7D55-4B8E-BBAF-0EA4B94231D7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3640" y="533160"/>
            <a:ext cx="8210520" cy="73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Conclusion (I)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395280" y="1628640"/>
            <a:ext cx="74898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Diversified funding vehicles are necessary to ensure sufficient funds and liquidity of deposit insurer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Deposit insurance fund investment should consider mainly safety and liquidit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More Asian DIs set up DIF target valu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F81E-E4C9-470F-8C69-C730584A1AA1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5280" y="1628640"/>
            <a:ext cx="74898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Deposit insurers shall be exempt from all taxes to speed up the accumulation of deposit insurance fu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Overall financial condition should be considered while adjusting deposit insurance premium during a financial crisi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Cost of handling a financial crisis should not be borne by deposit insurance organization alone</a:t>
            </a:r>
            <a:r>
              <a:rPr b="1" lang="en-US" sz="2000" spc="-1" strike="noStrike">
                <a:solidFill>
                  <a:srgbClr val="666699"/>
                </a:solidFill>
                <a:latin typeface="Arial"/>
                <a:ea typeface="新細明體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3640" y="533160"/>
            <a:ext cx="8210520" cy="73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Conclusion (II)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pic>
        <p:nvPicPr>
          <p:cNvPr id="217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30DA-FAC4-4D74-AA77-1943A4C90A8D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0" y="2286000"/>
            <a:ext cx="89917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54567"/>
                </a:solidFill>
                <a:latin typeface="Arial"/>
                <a:ea typeface="新細明體"/>
              </a:rPr>
              <a:t>Money is not everything,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54567"/>
                </a:solidFill>
                <a:latin typeface="Arial"/>
                <a:ea typeface="新細明體"/>
              </a:rPr>
              <a:t>but without money one can achieve nothing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Group 6"/>
          <p:cNvGrpSpPr/>
          <p:nvPr/>
        </p:nvGrpSpPr>
        <p:grpSpPr>
          <a:xfrm>
            <a:off x="838080" y="4724280"/>
            <a:ext cx="2057040" cy="1534680"/>
            <a:chOff x="838080" y="4724280"/>
            <a:chExt cx="2057040" cy="1534680"/>
          </a:xfrm>
        </p:grpSpPr>
        <p:pic>
          <p:nvPicPr>
            <p:cNvPr id="222" name="Picture 7" descr="j0222015"/>
            <p:cNvPicPr/>
            <p:nvPr/>
          </p:nvPicPr>
          <p:blipFill>
            <a:blip r:embed="rId1"/>
            <a:stretch/>
          </p:blipFill>
          <p:spPr>
            <a:xfrm>
              <a:off x="2073600" y="4724280"/>
              <a:ext cx="821520" cy="81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8" descr="BD04972_"/>
            <p:cNvPicPr/>
            <p:nvPr/>
          </p:nvPicPr>
          <p:blipFill>
            <a:blip r:embed="rId2"/>
            <a:stretch/>
          </p:blipFill>
          <p:spPr>
            <a:xfrm>
              <a:off x="838080" y="5199480"/>
              <a:ext cx="1413360" cy="105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4" name="Picture 9" descr=""/>
          <p:cNvPicPr/>
          <p:nvPr/>
        </p:nvPicPr>
        <p:blipFill>
          <a:blip r:embed="rId3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2"/>
          <p:cNvGraphicFramePr/>
          <p:nvPr/>
        </p:nvGraphicFramePr>
        <p:xfrm>
          <a:off x="0" y="0"/>
          <a:ext cx="1295280" cy="125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295280" cy="12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472428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Verdana"/>
                <a:ea typeface="新細明體"/>
              </a:rPr>
              <a:t>Thank You!</a:t>
            </a:r>
            <a:endParaRPr b="1" lang="en-US" sz="48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190880" y="4419720"/>
            <a:ext cx="3199680" cy="94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Verdana"/>
                <a:ea typeface="新細明體"/>
              </a:rPr>
              <a:t>cdic@cdic.gov.t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9" descr=""/>
          <p:cNvPicPr/>
          <p:nvPr/>
        </p:nvPicPr>
        <p:blipFill>
          <a:blip r:embed="rId4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F47D-9D18-4456-B7A3-E82CAC5067B6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7561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Basic Frameworks of DIS</a:t>
            </a:r>
            <a:r>
              <a:rPr b="1" lang="en-US" sz="3200" spc="-1" strike="noStrike">
                <a:solidFill>
                  <a:srgbClr val="dde5eb"/>
                </a:solidFill>
                <a:latin typeface="Arial"/>
                <a:ea typeface="新細明體"/>
              </a:rPr>
              <a:t> 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95280" y="1557360"/>
          <a:ext cx="7459560" cy="5041800"/>
        </p:xfrm>
        <a:graphic>
          <a:graphicData uri="http://schemas.openxmlformats.org/drawingml/2006/table">
            <a:tbl>
              <a:tblPr/>
              <a:tblGrid>
                <a:gridCol w="504720"/>
                <a:gridCol w="1511280"/>
                <a:gridCol w="1855800"/>
                <a:gridCol w="1960560"/>
                <a:gridCol w="1627200"/>
              </a:tblGrid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Date of DIS Implement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Organization Typ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andat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embership Approac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September 2006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ublic corpo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ay-box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ompulsor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January 1962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ublic corpo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ay-box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ompulsor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September 2005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ublic corpo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-betwee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ompulsor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July 1971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Semi-Public corpo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-betwee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ompulsor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ovember 1999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ublic corpo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-between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ompulsor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June 1996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ublic corpo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isk-minimize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ompulsor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September 2005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ublic corpo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isk-minimize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ompulsor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December 2003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ublic corpo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-betwee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ompulsor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April 2006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ublic corpo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ay-box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ompulsor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1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September 1985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ublic corpo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isk-minimize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Mandatory application, but subject to CDIC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細明體"/>
                        </a:rPr>
                        <a:t>’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s approval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August 2008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ublic Corpo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ay-box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ompulsor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June 1963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ublic corpo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In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–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between (transitioning to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isk-minimizer)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ompulsor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July 200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ublic corpo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isk-minimize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ompulsor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E48D-F117-4A14-B9A4-DF8D37C7C42F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360" y="549000"/>
            <a:ext cx="4824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DIF Functions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1773360"/>
          <a:ext cx="8064360" cy="4786200"/>
        </p:xfrm>
        <a:graphic>
          <a:graphicData uri="http://schemas.openxmlformats.org/drawingml/2006/table">
            <a:tbl>
              <a:tblPr/>
              <a:tblGrid>
                <a:gridCol w="536400"/>
                <a:gridCol w="1152720"/>
                <a:gridCol w="2303280"/>
                <a:gridCol w="1384560"/>
                <a:gridCol w="1306440"/>
                <a:gridCol w="1380960"/>
              </a:tblGrid>
              <a:tr h="263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eeting Insurance Obligation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Financial assistance to improve the operations of problem institution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Advance payments to depositors/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reditors of failed institution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eimburse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ent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Financial assistance for the sound financial institutions to P&amp;A the failed insured institution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Establishment of bridge bank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2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4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9167-978F-4D51-82BE-2C334421F52E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533160"/>
            <a:ext cx="48243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Sources of DIF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416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Capital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Premium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Earnings on investment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Recoveries and other sources of revenue 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For liquidity purpose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55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  <a:ea typeface="新細明體"/>
              </a:rPr>
              <a:t>Borrowing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55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  <a:ea typeface="新細明體"/>
              </a:rPr>
              <a:t>Bonds issuance 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8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6AC0-5444-4DB6-B5B0-59D05E259451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027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8243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Capital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04920" y="1628640"/>
          <a:ext cx="7772400" cy="5077080"/>
        </p:xfrm>
        <a:graphic>
          <a:graphicData uri="http://schemas.openxmlformats.org/drawingml/2006/table">
            <a:tbl>
              <a:tblPr/>
              <a:tblGrid>
                <a:gridCol w="614160"/>
                <a:gridCol w="1900440"/>
                <a:gridCol w="5257800"/>
              </a:tblGrid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apital Amount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ourc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o start-up capital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R0.5 billion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entral Bank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DR 4 trill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Government (MOF)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JPY455 mill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Government (MOF), Central Bank, Private financial institution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KZT110 bill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entral Ban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o start-up capital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o start-up capital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UR8.4 billion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Government (MOF)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o start-up capital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T$10 bill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Government (MOF), Central Bank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o start-up capital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HP3 bill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Government (national government)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ND5 trill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Government (MOF)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 Box 1111"/>
          <p:cNvSpPr/>
          <p:nvPr/>
        </p:nvSpPr>
        <p:spPr>
          <a:xfrm>
            <a:off x="0" y="0"/>
            <a:ext cx="22096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s of DI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3075-9608-4BB1-A08A-B215FF6DA3ED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050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8243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Premium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0880" y="1676520"/>
          <a:ext cx="7058160" cy="4897440"/>
        </p:xfrm>
        <a:graphic>
          <a:graphicData uri="http://schemas.openxmlformats.org/drawingml/2006/table">
            <a:tbl>
              <a:tblPr/>
              <a:tblGrid>
                <a:gridCol w="565200"/>
                <a:gridCol w="2540160"/>
                <a:gridCol w="1976400"/>
                <a:gridCol w="1976400"/>
              </a:tblGrid>
              <a:tr h="299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General Premium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pecial Premium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9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remium Assessment Basi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ate System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sured deposits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isk-based rat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surable deposi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Flat rat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surable deposi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Flat rat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surable deposits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Flat rat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surable deposi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isk-based rat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sured deposits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Flat rat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sured deposi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isk-based rat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surable deposi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Flat rat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sured deposits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isk-based rat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surable deposi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isk-based rat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surable deposi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Flat rat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Total deposit liability of bank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Flat rat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sured deposits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Flat rat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 Box 2488"/>
          <p:cNvSpPr/>
          <p:nvPr/>
        </p:nvSpPr>
        <p:spPr>
          <a:xfrm>
            <a:off x="0" y="0"/>
            <a:ext cx="22096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s of DI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2C31-8509-4170-BD0E-9368B81EAB43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549000"/>
            <a:ext cx="48243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Earnings on Investment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124" name="Text Box 83"/>
          <p:cNvSpPr/>
          <p:nvPr/>
        </p:nvSpPr>
        <p:spPr>
          <a:xfrm>
            <a:off x="0" y="0"/>
            <a:ext cx="22096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s of DI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80880" y="1817640"/>
          <a:ext cx="7647120" cy="4707000"/>
        </p:xfrm>
        <a:graphic>
          <a:graphicData uri="http://schemas.openxmlformats.org/drawingml/2006/table">
            <a:tbl>
              <a:tblPr/>
              <a:tblGrid>
                <a:gridCol w="465120"/>
                <a:gridCol w="557280"/>
                <a:gridCol w="865080"/>
                <a:gridCol w="790920"/>
                <a:gridCol w="649080"/>
                <a:gridCol w="719280"/>
                <a:gridCol w="649080"/>
                <a:gridCol w="935280"/>
                <a:gridCol w="1439640"/>
                <a:gridCol w="576360"/>
              </a:tblGrid>
              <a:tr h="439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Bonds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Notes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Deposits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0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Gov. Bonds 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Bank Debentures 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orporate Bonds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U.S. Gov. Bonds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Foreign Financial Bonds 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hort-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erm Notes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entral Bank Deposits 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Deposits in Sound Financial Institutions 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Other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6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B063-6F8B-4EBA-8904-B7E1C9908767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026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7280" y="609120"/>
            <a:ext cx="84963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Recoveries &amp; Other Sources of Revenue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130" name="Text Box 1028"/>
          <p:cNvSpPr/>
          <p:nvPr/>
        </p:nvSpPr>
        <p:spPr>
          <a:xfrm>
            <a:off x="0" y="0"/>
            <a:ext cx="22096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s of DI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1628640"/>
          <a:ext cx="7199280" cy="5000760"/>
        </p:xfrm>
        <a:graphic>
          <a:graphicData uri="http://schemas.openxmlformats.org/drawingml/2006/table">
            <a:tbl>
              <a:tblPr/>
              <a:tblGrid>
                <a:gridCol w="503280"/>
                <a:gridCol w="1531800"/>
                <a:gridCol w="3178080"/>
                <a:gridCol w="1986120"/>
              </a:tblGrid>
              <a:tr h="317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ecovery from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Liquid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Other Sources of Revenu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enalties on Late Premium Payment (Fines)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ontribution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9T15:33:04Z</dcterms:created>
  <dc:creator>Ya.p</dc:creator>
  <dc:description/>
  <dc:language>en-US</dc:language>
  <cp:lastModifiedBy>Pratik Mitra</cp:lastModifiedBy>
  <dcterms:modified xsi:type="dcterms:W3CDTF">2010-01-15T08:03:21Z</dcterms:modified>
  <cp:revision>524</cp:revision>
  <dc:subject/>
  <dc:title>投影片 1</dc:title>
</cp:coreProperties>
</file>